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55BA1-B8AE-4555-987A-B7CB0194DE6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596A-0F00-4FCD-9749-FE40FC9C820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044B-5C7A-430C-8DE7-300B89CC1A1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CB0F-AF39-4D75-B531-AC12C4B2B90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79D9-7F38-4221-80AA-F0173FADEBD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BE1BE-2C1B-4DAC-AD7D-723138EA7E5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124A-AC6B-4F69-854B-CA790327DAF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スライド番号プレースホルダ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C760-F100-40CA-912F-156FEE690B8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BCC8-9346-42C4-92B1-4EC4D73C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79C9-77D0-49B4-99D1-53F91CB3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0E2A-0F70-4000-AABC-A005C1813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78A7-D506-42D4-BBC4-582DAEE2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3439-7CC1-4E31-B05E-375B7897C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6C37-26D4-4E12-94CE-22291097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D454-F046-4FE4-B543-267D64BB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2122-1A23-4780-9CAF-8188E4B2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DBFE-2326-494B-B2C5-8D109C30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DEBB-F944-4875-873C-0A9D5C11B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B24E-DA80-4A5E-BB42-33F3363B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87FF-B7F2-4269-8198-DF60F02C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25C0-A8F4-4AC1-8D96-A1F9A782110C}" type="datetime">
              <a:rPr b="0" lang="ja-JP" sz="1200" spc="-1" strike="noStrike">
                <a:solidFill>
                  <a:srgbClr val="898989"/>
                </a:solidFill>
                <a:latin typeface="Calibri"/>
              </a:rPr>
              <a:t>26/0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九州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ITS</a:t>
            </a: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利活用研究会</a:t>
            </a: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/QPITS(Practice group of ITS in Kyush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111C4-060D-4AF2-83BB-982F90475ED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7200"/>
            <a:ext cx="7772400" cy="12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九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  <a:ea typeface="Arial"/>
              </a:rPr>
              <a:t>利活用研究会</a:t>
            </a:r>
            <a:br>
              <a:rPr sz="3200"/>
            </a:b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P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/ Practice group of ITS in Kyush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第３回会合資料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２０１２年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月１７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ＭＳ Ｐゴシック"/>
              </a:rPr>
              <a:t>九州組込みソフトウェアコンソーシアム</a:t>
            </a:r>
            <a:r>
              <a:rPr b="0" lang="en-US" sz="2400" spc="-1" strike="noStrike">
                <a:solidFill>
                  <a:srgbClr val="000000"/>
                </a:solidFill>
                <a:latin typeface="ＭＳ Ｐゴシック"/>
              </a:rPr>
              <a:t>(QUEST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" descr="QUEST-logo2007-1074x323"/>
          <p:cNvPicPr/>
          <p:nvPr/>
        </p:nvPicPr>
        <p:blipFill>
          <a:blip r:embed="rId1"/>
          <a:stretch/>
        </p:blipFill>
        <p:spPr>
          <a:xfrm>
            <a:off x="7786800" y="79200"/>
            <a:ext cx="1309680" cy="349560"/>
          </a:xfrm>
          <a:prstGeom prst="rect">
            <a:avLst/>
          </a:prstGeom>
          <a:ln w="0">
            <a:noFill/>
          </a:ln>
        </p:spPr>
      </p:pic>
      <p:pic>
        <p:nvPicPr>
          <p:cNvPr id="52" name="直線コネクタ 5" descr=""/>
          <p:cNvPicPr/>
          <p:nvPr/>
        </p:nvPicPr>
        <p:blipFill>
          <a:blip r:embed="rId2"/>
          <a:stretch/>
        </p:blipFill>
        <p:spPr>
          <a:xfrm>
            <a:off x="500040" y="828720"/>
            <a:ext cx="8217000" cy="61920"/>
          </a:xfrm>
          <a:prstGeom prst="rect">
            <a:avLst/>
          </a:prstGeom>
          <a:ln w="0">
            <a:noFill/>
          </a:ln>
        </p:spPr>
      </p:pic>
      <p:pic>
        <p:nvPicPr>
          <p:cNvPr id="53" name="直線コネクタ 6" descr=""/>
          <p:cNvPicPr/>
          <p:nvPr/>
        </p:nvPicPr>
        <p:blipFill>
          <a:blip r:embed="rId3"/>
          <a:stretch/>
        </p:blipFill>
        <p:spPr>
          <a:xfrm>
            <a:off x="566640" y="6400800"/>
            <a:ext cx="8223480" cy="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本日の予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000080"/>
            <a:ext cx="77580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１．「参加会員の開示可能なハード、ソフト、サービス等の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ITS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利活用に関わる調査」のアンケート収集につい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２．「トラストパーク紹介とパーキング業界の将来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トラストパーク株式会社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事業推進本部　開発部　課長　松浦　正幸　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事業推進本部　カスタマーマーケティング課　課長　西岡　誠　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３．「少子高齢化の見守りシステムの事例紹介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株式会社　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-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セレス　　　　　　代表取締役　野原　博　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４．「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QPITS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のビジネスモデルの考え方」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株式会社　システムワークス　　代表取締役　波多江　穣治　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５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ディスカッショ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" descr="QUEST-logo2007-1074x323"/>
          <p:cNvPicPr/>
          <p:nvPr/>
        </p:nvPicPr>
        <p:blipFill>
          <a:blip r:embed="rId1"/>
          <a:stretch/>
        </p:blipFill>
        <p:spPr>
          <a:xfrm>
            <a:off x="7786800" y="79200"/>
            <a:ext cx="1309680" cy="349560"/>
          </a:xfrm>
          <a:prstGeom prst="rect">
            <a:avLst/>
          </a:prstGeom>
          <a:ln w="0">
            <a:noFill/>
          </a:ln>
        </p:spPr>
      </p:pic>
      <p:pic>
        <p:nvPicPr>
          <p:cNvPr id="57" name="直線コネクタ 5" descr=""/>
          <p:cNvPicPr/>
          <p:nvPr/>
        </p:nvPicPr>
        <p:blipFill>
          <a:blip r:embed="rId2"/>
          <a:stretch/>
        </p:blipFill>
        <p:spPr>
          <a:xfrm>
            <a:off x="500040" y="828720"/>
            <a:ext cx="8217000" cy="61920"/>
          </a:xfrm>
          <a:prstGeom prst="rect">
            <a:avLst/>
          </a:prstGeom>
          <a:ln w="0">
            <a:noFill/>
          </a:ln>
        </p:spPr>
      </p:pic>
      <p:sp>
        <p:nvSpPr>
          <p:cNvPr id="58" name="フッター プレースホルダ 6"/>
          <p:cNvSpPr/>
          <p:nvPr/>
        </p:nvSpPr>
        <p:spPr>
          <a:xfrm>
            <a:off x="500040" y="6566040"/>
            <a:ext cx="8215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898989"/>
                </a:solidFill>
                <a:latin typeface="Arial"/>
                <a:ea typeface="Arial"/>
              </a:rPr>
              <a:t>九州</a:t>
            </a:r>
            <a:r>
              <a:rPr b="1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ITS</a:t>
            </a:r>
            <a:r>
              <a:rPr b="1" lang="ja-JP" sz="1000" spc="-1" strike="noStrike">
                <a:solidFill>
                  <a:srgbClr val="898989"/>
                </a:solidFill>
                <a:latin typeface="Arial"/>
                <a:ea typeface="Arial"/>
              </a:rPr>
              <a:t>利活用研究会</a:t>
            </a:r>
            <a:r>
              <a:rPr b="1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/QPITS(Practice group of ITS in Kyush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今後の活動予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1" descr="QUEST-logo2007-1074x323"/>
          <p:cNvPicPr/>
          <p:nvPr/>
        </p:nvPicPr>
        <p:blipFill>
          <a:blip r:embed="rId1"/>
          <a:stretch/>
        </p:blipFill>
        <p:spPr>
          <a:xfrm>
            <a:off x="7786800" y="79200"/>
            <a:ext cx="1309680" cy="349560"/>
          </a:xfrm>
          <a:prstGeom prst="rect">
            <a:avLst/>
          </a:prstGeom>
          <a:ln w="0">
            <a:noFill/>
          </a:ln>
        </p:spPr>
      </p:pic>
      <p:pic>
        <p:nvPicPr>
          <p:cNvPr id="61" name="直線コネクタ 5" descr=""/>
          <p:cNvPicPr/>
          <p:nvPr/>
        </p:nvPicPr>
        <p:blipFill>
          <a:blip r:embed="rId2"/>
          <a:stretch/>
        </p:blipFill>
        <p:spPr>
          <a:xfrm>
            <a:off x="500040" y="828720"/>
            <a:ext cx="8217000" cy="61920"/>
          </a:xfrm>
          <a:prstGeom prst="rect">
            <a:avLst/>
          </a:prstGeom>
          <a:ln w="0">
            <a:noFill/>
          </a:ln>
        </p:spPr>
      </p:pic>
      <p:sp>
        <p:nvSpPr>
          <p:cNvPr id="62" name="フッター プレースホルダ 6"/>
          <p:cNvSpPr/>
          <p:nvPr/>
        </p:nvSpPr>
        <p:spPr>
          <a:xfrm>
            <a:off x="500040" y="6994440"/>
            <a:ext cx="82152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898989"/>
                </a:solidFill>
                <a:latin typeface="Arial"/>
                <a:ea typeface="Arial"/>
              </a:rPr>
              <a:t>九州</a:t>
            </a:r>
            <a:r>
              <a:rPr b="1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ITS</a:t>
            </a:r>
            <a:r>
              <a:rPr b="1" lang="ja-JP" sz="1000" spc="-1" strike="noStrike">
                <a:solidFill>
                  <a:srgbClr val="898989"/>
                </a:solidFill>
                <a:latin typeface="Arial"/>
                <a:ea typeface="Arial"/>
              </a:rPr>
              <a:t>利活用研究会</a:t>
            </a:r>
            <a:r>
              <a:rPr b="1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/QPITS(Practice group of ITS in Kyush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コンテンツ プレースホルダ 2"/>
          <p:cNvSpPr/>
          <p:nvPr/>
        </p:nvSpPr>
        <p:spPr>
          <a:xfrm>
            <a:off x="495360" y="928800"/>
            <a:ext cx="8229600" cy="52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テーマ別会合：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必要に応じ、開催します。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全体会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原則、毎月第二火曜日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第四回会合：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日（火）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※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２月は全体会合は開催致しません。（２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日にセミナー実施のため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アンケートの締め切り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日（水）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QUES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事務局へのメールまたはシステムワークス社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への記入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　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（いずれ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【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福岡市主催セミナー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】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日（金）　於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RP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午前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SIT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クラウド研究会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「クラウドコンピューティングの広がり：観光分野」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※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この中で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分ほど「九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利活用研究会」を紹介します。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午後：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QUEST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ハイレベルセミナー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基調講演「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S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における自動車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化の方向」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～自動車クラウド時代への対応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※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「インターネットＩＴＳ協議会」事務局長　時津直樹様（元デンソー顧問）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我が国は内外からの変革に曝されている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の急速な進展によっ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T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（高度道路交通システム）は変局点に差し掛かっている。逆に、この流れ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は大きなビジネスチャンスを生み出す。九州の地域特性を生かした、事業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Arial"/>
              </a:rPr>
              <a:t>の拡大方向を皆で考察したい。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フッター プレースホルダ 6"/>
          <p:cNvSpPr/>
          <p:nvPr/>
        </p:nvSpPr>
        <p:spPr>
          <a:xfrm>
            <a:off x="500040" y="6566040"/>
            <a:ext cx="8215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898989"/>
                </a:solidFill>
                <a:latin typeface="Arial"/>
                <a:ea typeface="Arial"/>
              </a:rPr>
              <a:t>九州</a:t>
            </a:r>
            <a:r>
              <a:rPr b="1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ITS</a:t>
            </a:r>
            <a:r>
              <a:rPr b="1" lang="ja-JP" sz="1000" spc="-1" strike="noStrike">
                <a:solidFill>
                  <a:srgbClr val="898989"/>
                </a:solidFill>
                <a:latin typeface="Arial"/>
                <a:ea typeface="Arial"/>
              </a:rPr>
              <a:t>利活用研究会</a:t>
            </a:r>
            <a:r>
              <a:rPr b="1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/QPITS(Practice group of ITS in Kyush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ja-JP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2999880"/>
            <a:ext cx="77580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Calibri"/>
              </a:rPr>
              <a:t>「参加会員の開示可能なハード、ソフト、サービス等の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TS</a:t>
            </a:r>
            <a:r>
              <a:rPr b="1" lang="ja-JP" sz="3200" spc="-1" strike="noStrike">
                <a:solidFill>
                  <a:srgbClr val="000000"/>
                </a:solidFill>
                <a:latin typeface="Calibri"/>
              </a:rPr>
              <a:t>利活用に関わる調査」のアンケート収集につい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1" descr="QUEST-logo2007-1074x323"/>
          <p:cNvPicPr/>
          <p:nvPr/>
        </p:nvPicPr>
        <p:blipFill>
          <a:blip r:embed="rId1"/>
          <a:stretch/>
        </p:blipFill>
        <p:spPr>
          <a:xfrm>
            <a:off x="7786800" y="79200"/>
            <a:ext cx="1309680" cy="349560"/>
          </a:xfrm>
          <a:prstGeom prst="rect">
            <a:avLst/>
          </a:prstGeom>
          <a:ln w="0">
            <a:noFill/>
          </a:ln>
        </p:spPr>
      </p:pic>
      <p:pic>
        <p:nvPicPr>
          <p:cNvPr id="68" name="直線コネクタ 5" descr=""/>
          <p:cNvPicPr/>
          <p:nvPr/>
        </p:nvPicPr>
        <p:blipFill>
          <a:blip r:embed="rId2"/>
          <a:stretch/>
        </p:blipFill>
        <p:spPr>
          <a:xfrm>
            <a:off x="500040" y="828720"/>
            <a:ext cx="8217000" cy="61920"/>
          </a:xfrm>
          <a:prstGeom prst="rect">
            <a:avLst/>
          </a:prstGeom>
          <a:ln w="0">
            <a:noFill/>
          </a:ln>
        </p:spPr>
      </p:pic>
      <p:sp>
        <p:nvSpPr>
          <p:cNvPr id="69" name="フッター プレースホルダ 6"/>
          <p:cNvSpPr/>
          <p:nvPr/>
        </p:nvSpPr>
        <p:spPr>
          <a:xfrm>
            <a:off x="500040" y="6566040"/>
            <a:ext cx="8215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898989"/>
                </a:solidFill>
                <a:latin typeface="Arial"/>
                <a:ea typeface="Arial"/>
              </a:rPr>
              <a:t>九州</a:t>
            </a:r>
            <a:r>
              <a:rPr b="1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ITS</a:t>
            </a:r>
            <a:r>
              <a:rPr b="1" lang="ja-JP" sz="1000" spc="-1" strike="noStrike">
                <a:solidFill>
                  <a:srgbClr val="898989"/>
                </a:solidFill>
                <a:latin typeface="Arial"/>
                <a:ea typeface="Arial"/>
              </a:rPr>
              <a:t>利活用研究会</a:t>
            </a:r>
            <a:r>
              <a:rPr b="1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/QPITS(Practice group of ITS in Kyush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アンケートの目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85680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これまでの２回の会合などを通じて、各会員企業の皆様から個別に提案を頂くなどしておりますが、研究会としてまとまった形での集計ができておりません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このため、改めて研究会参加会員の皆様へのアンケートを実施させて頂き、今後の活動のベースとなるデータとさせて頂きたいと思います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1" descr="QUEST-logo2007-1074x323"/>
          <p:cNvPicPr/>
          <p:nvPr/>
        </p:nvPicPr>
        <p:blipFill>
          <a:blip r:embed="rId1"/>
          <a:stretch/>
        </p:blipFill>
        <p:spPr>
          <a:xfrm>
            <a:off x="7786800" y="79200"/>
            <a:ext cx="1309680" cy="349560"/>
          </a:xfrm>
          <a:prstGeom prst="rect">
            <a:avLst/>
          </a:prstGeom>
          <a:ln w="0">
            <a:noFill/>
          </a:ln>
        </p:spPr>
      </p:pic>
      <p:pic>
        <p:nvPicPr>
          <p:cNvPr id="73" name="直線コネクタ 5" descr=""/>
          <p:cNvPicPr/>
          <p:nvPr/>
        </p:nvPicPr>
        <p:blipFill>
          <a:blip r:embed="rId2"/>
          <a:stretch/>
        </p:blipFill>
        <p:spPr>
          <a:xfrm>
            <a:off x="500040" y="828720"/>
            <a:ext cx="8217000" cy="61920"/>
          </a:xfrm>
          <a:prstGeom prst="rect">
            <a:avLst/>
          </a:prstGeom>
          <a:ln w="0">
            <a:noFill/>
          </a:ln>
        </p:spPr>
      </p:pic>
      <p:sp>
        <p:nvSpPr>
          <p:cNvPr id="74" name="タイトル 1"/>
          <p:cNvSpPr/>
          <p:nvPr/>
        </p:nvSpPr>
        <p:spPr>
          <a:xfrm>
            <a:off x="433440" y="221472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提出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コンテンツ プレースホルダ 2"/>
          <p:cNvSpPr/>
          <p:nvPr/>
        </p:nvSpPr>
        <p:spPr>
          <a:xfrm>
            <a:off x="500040" y="2857680"/>
            <a:ext cx="822960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以下のいずれかの方法で提出をお願い致します。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１．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S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事務局へのメールでの提出（フォーム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QUES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ホームページから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ダウンロードできます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quest9.sakura.ne.jp/quest/doku.php?id=qpits_data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提出先メールアドレス：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gister@quest9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２．システムワークス社ご提供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サイト上への記入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ttp://www.systemworks.biz/?page_id=15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直線コネクタ 11" descr=""/>
          <p:cNvPicPr/>
          <p:nvPr/>
        </p:nvPicPr>
        <p:blipFill>
          <a:blip r:embed="rId3"/>
          <a:stretch/>
        </p:blipFill>
        <p:spPr>
          <a:xfrm>
            <a:off x="476280" y="2766960"/>
            <a:ext cx="8217000" cy="61920"/>
          </a:xfrm>
          <a:prstGeom prst="rect">
            <a:avLst/>
          </a:prstGeom>
          <a:ln w="0">
            <a:noFill/>
          </a:ln>
        </p:spPr>
      </p:pic>
      <p:sp>
        <p:nvSpPr>
          <p:cNvPr id="77" name="フッター プレースホルダ 6"/>
          <p:cNvSpPr/>
          <p:nvPr/>
        </p:nvSpPr>
        <p:spPr>
          <a:xfrm>
            <a:off x="500040" y="6994440"/>
            <a:ext cx="82152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898989"/>
                </a:solidFill>
                <a:latin typeface="Arial"/>
                <a:ea typeface="Arial"/>
              </a:rPr>
              <a:t>九州</a:t>
            </a:r>
            <a:r>
              <a:rPr b="1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ITS</a:t>
            </a:r>
            <a:r>
              <a:rPr b="1" lang="ja-JP" sz="1000" spc="-1" strike="noStrike">
                <a:solidFill>
                  <a:srgbClr val="898989"/>
                </a:solidFill>
                <a:latin typeface="Arial"/>
                <a:ea typeface="Arial"/>
              </a:rPr>
              <a:t>利活用研究会</a:t>
            </a:r>
            <a:r>
              <a:rPr b="1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/QPITS(Practice group of ITS in Kyush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タイトル 1"/>
          <p:cNvSpPr/>
          <p:nvPr/>
        </p:nvSpPr>
        <p:spPr>
          <a:xfrm>
            <a:off x="428760" y="4857840"/>
            <a:ext cx="82296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提出期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コンテンツ プレースホルダ 2"/>
          <p:cNvSpPr/>
          <p:nvPr/>
        </p:nvSpPr>
        <p:spPr>
          <a:xfrm>
            <a:off x="495360" y="5500800"/>
            <a:ext cx="82296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65040" indent="-365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日（水）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※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集計結果は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Arial"/>
              </a:rPr>
              <a:t>月後半を目処にＱＰＩＴＳ会員の皆様に公開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直線コネクタ 14" descr=""/>
          <p:cNvPicPr/>
          <p:nvPr/>
        </p:nvPicPr>
        <p:blipFill>
          <a:blip r:embed="rId4"/>
          <a:stretch/>
        </p:blipFill>
        <p:spPr>
          <a:xfrm>
            <a:off x="426960" y="5400720"/>
            <a:ext cx="8217000" cy="55440"/>
          </a:xfrm>
          <a:prstGeom prst="rect">
            <a:avLst/>
          </a:prstGeom>
          <a:ln w="0">
            <a:noFill/>
          </a:ln>
        </p:spPr>
      </p:pic>
      <p:sp>
        <p:nvSpPr>
          <p:cNvPr id="81" name="フッター プレースホルダ 6"/>
          <p:cNvSpPr/>
          <p:nvPr/>
        </p:nvSpPr>
        <p:spPr>
          <a:xfrm>
            <a:off x="500040" y="6637320"/>
            <a:ext cx="8215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898989"/>
                </a:solidFill>
                <a:latin typeface="Arial"/>
                <a:ea typeface="Arial"/>
              </a:rPr>
              <a:t>九州</a:t>
            </a:r>
            <a:r>
              <a:rPr b="1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ITS</a:t>
            </a:r>
            <a:r>
              <a:rPr b="1" lang="ja-JP" sz="1000" spc="-1" strike="noStrike">
                <a:solidFill>
                  <a:srgbClr val="898989"/>
                </a:solidFill>
                <a:latin typeface="Arial"/>
                <a:ea typeface="Arial"/>
              </a:rPr>
              <a:t>利活用研究会</a:t>
            </a:r>
            <a:r>
              <a:rPr b="1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/QPITS(Practice group of ITS in Kyush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alibri"/>
              </a:rPr>
              <a:t>提起されたテーマ（例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9288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　これまでに提起されたテーマには以下があります。該当するテーマにチェックしてください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１．物流車、公共交通（路線バスやタクシー）が収集するプローブデータのクラウドを活用した情報提供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２．駅でのスムーズな人の流れ（乗り換えなど）をスマートフォンを経由して支援するシステム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－　公共交通乗換及び結節位置情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－　公共交通機関の料金案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－　駅構内のルート案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３．公共交通結節でのデジタルサイネージおよびスマートフォンを活用した情報提供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－　外国人観光客向け乗り換え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－　多国語による観光地案内（到着までの間に／観光地において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－　ショッピング情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４．公共交通機関利用時の目的地到着予想時間および最速ルート案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５．パーク＆ライド案内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－　渋滞や列車、バスの時間まで考慮した案内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－　目的地駐車場混雑情報なども加味した案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－　観光地でのカーシェア状況案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６．観光用レンタサイクル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－　多国語による観光案内、ルート対応、乗り捨てな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７．非常時の誘導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　－　多国語による非常時誘導（交通障害情報、運行災害情報、ルート情報など）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８．緊急支援センターの所在地情報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９．少子高齢化の見守りシステ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１０．交通バリアフリーの利用案内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その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" descr="QUEST-logo2007-1074x323"/>
          <p:cNvPicPr/>
          <p:nvPr/>
        </p:nvPicPr>
        <p:blipFill>
          <a:blip r:embed="rId1"/>
          <a:stretch/>
        </p:blipFill>
        <p:spPr>
          <a:xfrm>
            <a:off x="7786800" y="79200"/>
            <a:ext cx="1309680" cy="349560"/>
          </a:xfrm>
          <a:prstGeom prst="rect">
            <a:avLst/>
          </a:prstGeom>
          <a:ln w="0">
            <a:noFill/>
          </a:ln>
        </p:spPr>
      </p:pic>
      <p:pic>
        <p:nvPicPr>
          <p:cNvPr id="85" name="直線コネクタ 5" descr=""/>
          <p:cNvPicPr/>
          <p:nvPr/>
        </p:nvPicPr>
        <p:blipFill>
          <a:blip r:embed="rId2"/>
          <a:stretch/>
        </p:blipFill>
        <p:spPr>
          <a:xfrm>
            <a:off x="500040" y="828720"/>
            <a:ext cx="8217000" cy="61920"/>
          </a:xfrm>
          <a:prstGeom prst="rect">
            <a:avLst/>
          </a:prstGeom>
          <a:ln w="0">
            <a:noFill/>
          </a:ln>
        </p:spPr>
      </p:pic>
      <p:sp>
        <p:nvSpPr>
          <p:cNvPr id="86" name="フッター プレースホルダ 6"/>
          <p:cNvSpPr/>
          <p:nvPr/>
        </p:nvSpPr>
        <p:spPr>
          <a:xfrm>
            <a:off x="500040" y="6994440"/>
            <a:ext cx="82152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898989"/>
                </a:solidFill>
                <a:latin typeface="Arial"/>
                <a:ea typeface="Arial"/>
              </a:rPr>
              <a:t>九州</a:t>
            </a:r>
            <a:r>
              <a:rPr b="1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ITS</a:t>
            </a:r>
            <a:r>
              <a:rPr b="1" lang="ja-JP" sz="1000" spc="-1" strike="noStrike">
                <a:solidFill>
                  <a:srgbClr val="898989"/>
                </a:solidFill>
                <a:latin typeface="Arial"/>
                <a:ea typeface="Arial"/>
              </a:rPr>
              <a:t>利活用研究会</a:t>
            </a:r>
            <a:r>
              <a:rPr b="1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/QPITS(Practice group of ITS in Kyush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フッター プレースホルダ 6"/>
          <p:cNvSpPr/>
          <p:nvPr/>
        </p:nvSpPr>
        <p:spPr>
          <a:xfrm>
            <a:off x="500040" y="6566040"/>
            <a:ext cx="8215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898989"/>
                </a:solidFill>
                <a:latin typeface="Arial"/>
                <a:ea typeface="Arial"/>
              </a:rPr>
              <a:t>九州</a:t>
            </a:r>
            <a:r>
              <a:rPr b="1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ITS</a:t>
            </a:r>
            <a:r>
              <a:rPr b="1" lang="ja-JP" sz="1000" spc="-1" strike="noStrike">
                <a:solidFill>
                  <a:srgbClr val="898989"/>
                </a:solidFill>
                <a:latin typeface="Arial"/>
                <a:ea typeface="Arial"/>
              </a:rPr>
              <a:t>利活用研究会</a:t>
            </a:r>
            <a:r>
              <a:rPr b="1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/QPITS(Practice group of ITS in Kyush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2012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年度実践プロジェクト実施地域（案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9284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012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年度は、以下２地域に限定して、実践プロジェクトを実施する予定です。参加したいプロジェクトにチェックしてください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都心地域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　博多駅から天神地区までのゴールデン・スクウェア地区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☆　物流車、公共交通が収集するプローブデータを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Calibri"/>
              </a:rPr>
              <a:t>日本国内で最も有効に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利活用できる地域</a:t>
            </a:r>
            <a:br>
              <a:rPr sz="1600"/>
            </a:br>
            <a:r>
              <a:rPr b="1" lang="ja-JP" sz="1600" spc="-1" strike="noStrike" u="sng">
                <a:solidFill>
                  <a:srgbClr val="000000"/>
                </a:solidFill>
                <a:uFillTx/>
                <a:latin typeface="Calibri"/>
              </a:rPr>
              <a:t>実践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　－　物流車、公共交通（路線バスやタクシー）が収集するプローブデータの利活用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　－　二大駅（ＪＲ博多駅、西鉄福岡天神駅）での、交通弱者にやさしい人の流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　－　店舗と連携した実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　－　多国語対応の災害・異常時対応システ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　－　少子高齢化対応の見守りシステ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　　　　その他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観光地域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　柳川（筑後船小屋駅含む）および久留米地域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☆　日本情緒が味わえると</a:t>
            </a:r>
            <a:r>
              <a:rPr b="0" lang="ja-JP" sz="1600" spc="-1" strike="noStrike" u="sng">
                <a:solidFill>
                  <a:srgbClr val="000000"/>
                </a:solidFill>
                <a:uFillTx/>
                <a:latin typeface="Calibri"/>
              </a:rPr>
              <a:t>外国人に評判の</a:t>
            </a: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、福岡からゆっくり日帰りできる観光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 u="sng">
                <a:solidFill>
                  <a:srgbClr val="000000"/>
                </a:solidFill>
                <a:uFillTx/>
                <a:latin typeface="Calibri"/>
              </a:rPr>
              <a:t>実践内容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　－　多国語による観光地案内（到着までの間に／観光地において）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　－　レンタサイクル／カ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　－　食事処と連携した実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alibri"/>
              </a:rPr>
              <a:t>　　　その他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" descr="QUEST-logo2007-1074x323"/>
          <p:cNvPicPr/>
          <p:nvPr/>
        </p:nvPicPr>
        <p:blipFill>
          <a:blip r:embed="rId1"/>
          <a:stretch/>
        </p:blipFill>
        <p:spPr>
          <a:xfrm>
            <a:off x="7786800" y="79200"/>
            <a:ext cx="1309680" cy="349560"/>
          </a:xfrm>
          <a:prstGeom prst="rect">
            <a:avLst/>
          </a:prstGeom>
          <a:ln w="0">
            <a:noFill/>
          </a:ln>
        </p:spPr>
      </p:pic>
      <p:pic>
        <p:nvPicPr>
          <p:cNvPr id="91" name="直線コネクタ 5" descr=""/>
          <p:cNvPicPr/>
          <p:nvPr/>
        </p:nvPicPr>
        <p:blipFill>
          <a:blip r:embed="rId2"/>
          <a:stretch/>
        </p:blipFill>
        <p:spPr>
          <a:xfrm>
            <a:off x="500040" y="828720"/>
            <a:ext cx="8217000" cy="61920"/>
          </a:xfrm>
          <a:prstGeom prst="rect">
            <a:avLst/>
          </a:prstGeom>
          <a:ln w="0">
            <a:noFill/>
          </a:ln>
        </p:spPr>
      </p:pic>
      <p:sp>
        <p:nvSpPr>
          <p:cNvPr id="92" name="フッター プレースホルダ 6"/>
          <p:cNvSpPr/>
          <p:nvPr/>
        </p:nvSpPr>
        <p:spPr>
          <a:xfrm>
            <a:off x="500040" y="6994440"/>
            <a:ext cx="821520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898989"/>
                </a:solidFill>
                <a:latin typeface="Arial"/>
                <a:ea typeface="Arial"/>
              </a:rPr>
              <a:t>九州</a:t>
            </a:r>
            <a:r>
              <a:rPr b="1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ITS</a:t>
            </a:r>
            <a:r>
              <a:rPr b="1" lang="ja-JP" sz="1000" spc="-1" strike="noStrike">
                <a:solidFill>
                  <a:srgbClr val="898989"/>
                </a:solidFill>
                <a:latin typeface="Arial"/>
                <a:ea typeface="Arial"/>
              </a:rPr>
              <a:t>利活用研究会</a:t>
            </a:r>
            <a:r>
              <a:rPr b="1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/QPITS(Practice group of ITS in Kyush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フッター プレースホルダ 6"/>
          <p:cNvSpPr/>
          <p:nvPr/>
        </p:nvSpPr>
        <p:spPr>
          <a:xfrm>
            <a:off x="500040" y="6566040"/>
            <a:ext cx="8215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898989"/>
                </a:solidFill>
                <a:latin typeface="Arial"/>
                <a:ea typeface="Arial"/>
              </a:rPr>
              <a:t>九州</a:t>
            </a:r>
            <a:r>
              <a:rPr b="1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ITS</a:t>
            </a:r>
            <a:r>
              <a:rPr b="1" lang="ja-JP" sz="1000" spc="-1" strike="noStrike">
                <a:solidFill>
                  <a:srgbClr val="898989"/>
                </a:solidFill>
                <a:latin typeface="Arial"/>
                <a:ea typeface="Arial"/>
              </a:rPr>
              <a:t>利活用研究会</a:t>
            </a:r>
            <a:r>
              <a:rPr b="1" lang="en-US" sz="1000" spc="-1" strike="noStrike">
                <a:solidFill>
                  <a:srgbClr val="898989"/>
                </a:solidFill>
                <a:latin typeface="Arial"/>
                <a:ea typeface="Arial"/>
              </a:rPr>
              <a:t>/QPITS(Practice group of ITS in Kyushu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1T00:48:06Z</dcterms:created>
  <dc:creator>JRQSS</dc:creator>
  <dc:description/>
  <dc:language>en-US</dc:language>
  <cp:lastModifiedBy>山下 直仁</cp:lastModifiedBy>
  <dcterms:modified xsi:type="dcterms:W3CDTF">2012-01-18T09:07:31Z</dcterms:modified>
  <cp:revision>47</cp:revision>
  <dc:subject/>
  <dc:title>スライド 1</dc:title>
</cp:coreProperties>
</file>