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11.jpeg" ContentType="image/jpeg"/>
  <Override PartName="/ppt/media/image12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CF8E-4A60-4E98-BCD4-DD0F5DAD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4737-3584-42C9-8854-D194D60E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80DEC-A412-4A23-AED8-5EF539BA4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8483F0-F846-4A13-B348-0880D8A55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FC5AC6-3755-4799-855E-BAFDE77AD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4921F-F656-4992-AB4E-E5D422B5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327C0-353E-400E-98C1-32A6B975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B0876D-CDDD-47E5-8F00-BD6A404A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3762B-73CC-4F47-B1F8-CC28A0D4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D29D34-2F6C-4330-A1E4-2C92FDA3A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DF10F1-ADA1-4B41-98DF-00B6AB7E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D46C6-F0EC-4E13-AAA2-36904058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7DC9-4774-49F3-9FF4-956277D7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50C49-BF6B-483C-9D0D-99863EAE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C1D419-A012-452A-B654-D2167B29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78C30F-930B-4EE4-A482-D71C9B15F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B19C9-4A1C-43B6-8AEB-19DD4FFC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CBC77-DCF3-4E7C-8E88-97C00B7B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97A35D-D0CF-4813-BD6B-98CC24BD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1EDC37-943D-4524-8341-63B148B1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8D434F-82C7-4B57-8839-C37FF10F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AE98F6-0A0A-4A40-BDB1-B704A61C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CA8AAB-AC6E-47EE-AAEB-4A5D526D7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F4FE-CBAA-433D-8920-F510418F1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7373C-54D0-464C-A10F-FCFD4B38F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CAA01-7F35-4674-86C7-F33704FD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73B01D-3338-40E8-A8FC-A7AB0844B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957A9E-F288-4E26-819D-D84CF781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8BDDD1-5DCA-4F64-974F-64838480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9D8275-72E4-43F8-941E-2F0A7AF05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67F1A-CC16-40E7-8AF7-81861431C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3D52C-DD4F-46EA-BF2E-BB5478C4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6AF112-A97E-41E1-BF50-97DA0E6B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CB16E6-2475-405C-A40C-EBE8CA231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24916-AA5D-4E13-8016-ABCA3742A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E4899-9FAE-4EDE-AD39-4AA260B7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F89F6-F148-4382-9A33-7B7FD240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198DF5-4EB6-45E8-AA1D-88738A184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73C102-2265-476F-BC6C-E8E72114F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AA385F-992C-4728-84C4-B4EA048F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06767B-C726-4CD4-9A51-63F8D44F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9D8EFA-33E9-4DD8-BD06-9E772611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5EE0E-BD7D-411D-944B-2BB240C5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ACFE46-BFE3-4AD4-825A-85251EB08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BEEA37-2585-4937-A98C-25764DDA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954764-55FB-4156-8551-853946DE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D61068-072F-45B8-9932-E2683C0E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82A847-ECA5-4832-A061-EE352133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415FDE-66D2-40AD-8CBB-459B6B80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EBCFDB-2BBB-4374-82D8-34779181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FF1AE5-1139-4EB5-A39A-369F08F5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042DFC-0919-40D5-829F-47938CB4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ABC613-6995-4FD2-B34B-6AABABC2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6B0B6E-7B7F-4A12-9745-60F71286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BC219F-EF49-486E-A3CF-F09A9369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9849AC-CBB4-45EC-994C-528B5DA4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E1D62-1CB7-43FD-8F71-DCDC3664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9E1084-1D9D-420C-AA2B-8F41DEC3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55B35-092E-470D-9BB3-59FCEA79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427531-F94C-49FA-ACD7-6E898787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877982-95DC-4A77-9CA0-8ED0075D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34CA61-4331-477F-83F9-5A954300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9CA731-8386-4062-BEBF-0AF703F83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4A8D0C-FA78-4CF8-8F3B-E9B188B1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1C47FE-8249-4976-9C60-B5BB685D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3C256A-92D7-41D1-B953-0E9A8D6A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5C9013-4A38-455D-9FCC-4F72A4F2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B30DD3-1E92-466C-B0BB-43A6764A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C1DED6-9298-4834-BDBC-49D5C920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CE1D4F-3008-46C9-B4A8-B3AAEABE7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2D4721-A74F-4005-AD3E-EF14F4260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2FAF3A-7BE9-4204-8363-6D96DD44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734D76-18F3-4D5D-8AB5-EAFFB76B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DBD538-2A6A-453D-B065-C01DA99B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FE1B3E-8591-412A-9D12-9542AAB7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645C92-96DA-4CCA-9E64-425A5136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3CC8CC-66AF-465A-A3C9-1B5EFD65B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03FA5F-233C-49A3-933D-22BC81CF5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6AEA9A-4E9C-4200-853B-38C258767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EA5BA5-6E7F-40C2-A3B3-82AB49762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D78736-0BD7-4E7A-B30A-852FAF48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041EFB-7673-408C-8ADB-A3CAFF88E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FC1055-2853-425C-A4A5-0F7268109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E5018D-8ECB-4923-819A-8436DBBB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4A96AA-8188-4313-85FB-54DA360B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2658D3-2FB0-4750-994C-036F67E5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BB1893-80C2-41A1-BB73-24C6F87C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50AB0D-6D99-43C2-B602-F2750E35A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A7C1B8-E00A-4946-BBFC-4F2C90A1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1061C8-7366-461D-B855-24510CA5B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97EC68-3BE6-49A4-9169-50DCB00B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524055-0FCE-41D6-834E-39BEEEE38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235C1F-5E9F-4851-AB52-CE32519B5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E4B495-11FD-46EE-A6CC-FFE0400FF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F045DA-5D1B-4AD8-A2A6-550102FB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019609-24CE-481A-9B4D-5FDAAED6B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708FED-7D84-4E26-8EF8-45FF24F8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393BEB-6D71-4A6D-B371-8180846F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536349-501B-4025-A70A-06D32651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497E85-7BB0-4635-B558-B84B8217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383C9-89F3-4537-8D48-C034B571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6E0037-CE83-4D3E-B0CA-017F337B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0FB567-EF97-4512-A2CB-8909BB45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B89843-E496-4B74-95CC-66C04E7D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E72951-2929-46C8-8893-48EE98EFF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A9BE85-E3E1-40C5-B730-BDFDEC80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3952E8-2B59-49E6-8609-47A3AA01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482C1E-F5AA-4EBD-B8B6-FD1EC9605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8D928E-DECA-4867-9A59-7255DE89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BE3938-B775-453B-8EA6-1E907496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9C1A16-28FE-44BA-8B90-0485374A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2FBD-1824-446C-86C2-89BB56B6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D18F60-B60F-4E94-97EE-AE698E2DB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489F46-FD11-4086-92A4-19F2EC5E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A27712-8DF5-4B14-A65F-70F83C0B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184D15-56C8-453A-B9A1-38F26402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C8A03E-8B3B-434E-AB5A-86E8A9216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763807-1868-4ABD-BD95-CC92001AC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7DD06F-E768-4B96-B7A4-39273A58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51725-E100-4A8F-9217-47711F12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0A7595-FACC-4BE5-9BDC-534F1BCC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F6962-5E70-4A08-904B-EA86D2E8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A8B52-ADDD-42B6-ABE1-A6F13ED7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C5236-013D-4EC9-9184-3A426E1A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6227A-B219-46D6-B461-F38DEF64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8BE8E-DA97-466A-8BC1-5A21232B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AF015-538F-4519-8B22-945754C0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39A8-A6FC-4F0F-ABDE-621632CB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A76F2-F9F5-4F41-8E6B-922E12B55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92507-138C-4DD2-9D9F-EE18D156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33829-2B2B-4E1F-8614-F68EF2989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3A73A-99C5-4EC0-88CC-B02F1846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3D54F-7E21-4715-81A1-A28A22CA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9E384-A5C0-48D3-81E4-481CE746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0659E-C5DB-4BD6-B864-3825224C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E4E3A-6DC8-483A-A1F5-D85389D1A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6ECC6-0BB4-489E-8C67-02D3CF52C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77B86-5623-4186-AE84-EEBD4732A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8025-1C03-43A8-96F5-C11150E89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A7267-F7F9-44CC-A256-E1AF3214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8647C-591C-4259-97BB-FCF601F1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4FE16-29ED-47AE-AEF1-5091EF016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2096F-1A5F-4A85-9380-1F08D338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577A2-68A6-4F89-B5C1-664B2407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F2304-D7A6-4D15-914A-3B1D4F7AD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C33D8-D867-4D98-B6A5-346F13686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101C8-7475-4353-9596-77C1C3A8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14D07-0EA9-494C-98EB-3E19A020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29494-31E9-49F2-9FDD-B120E4D3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EBE2-5731-491C-AEFC-DAB880B2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3B1F2-46FE-4547-AF97-1C56F526C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8FB74-91B0-471E-923F-68715011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E3B64-8CF9-4F4D-84F5-E6A93A84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AEB29-10DA-4A09-A498-1502255A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69282-B49D-4FAE-B853-6E29371E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2109E-A675-4F9E-9857-2129D3B9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9BEC5-16B7-4FE0-B886-E7A703088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8A99F-CD31-443A-919C-E6F015F8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54103-EEE5-4BAC-972C-B241293F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46BD6-4EEC-4620-9105-9F2F66A6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0642-6072-4B4A-B4C1-91DDF8B3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6C9FE-116C-43F2-89C9-E6F2ACD1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475FD-C3BA-4887-9C60-040EBC3B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FCFB0-BAE0-484B-897B-8D05C47B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241F2-6614-4BE9-A08B-914CCDDB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A05D5-9732-4E9B-A4DF-2F75154C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16429-9F26-4923-846F-E001BA85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718AA-2370-4E40-8CB4-752DED03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477B0-D335-4FAE-8B72-78CC4B7B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7FABA-7973-429A-8E4D-AD7BB21E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47147-EA32-4128-8533-17368FE4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F48-BC93-4D48-BD7B-DA6D0F24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31539-CCBD-4F06-9551-C7BF85FC8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F927E8-8C5C-4D7A-A841-BA9796AC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835EA-9481-4B83-A50E-515F30A1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8D6F9-3D03-46D8-9AE5-E34BD5AE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BD2C0-DAB0-4A39-A196-2E4D6BC2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56D44-58DE-4183-909C-29CFF9852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B8ECD-7BA4-44C2-920D-B5845626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B05A4D-0164-40C4-BA73-E3033EC8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571E0-62A1-44D8-A972-1594497A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FC9DFD-5B34-4E8D-A883-5A166837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33D9-ECD8-4AD5-A648-1B0FDE25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833D2-6549-4733-BE72-DF9F3AA2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D9620-317C-47F0-B01A-D4F5FC54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60D9C-A08F-4B1E-B2F9-7C54D86C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ADE553-27DE-4DCA-BC3C-B5DEE3E8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9F9AC-34D1-4D28-BC6A-AD3BC3C3F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841C0-9B69-4D0B-84BB-35DEB4CCE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A10A8-3819-43EF-8C2E-8D9906FD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72872-288E-4140-A98A-5318E741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58FD0-F656-4CDE-8696-DB9D606F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FF863-4978-40B8-A854-89E053C0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4995-8636-42E9-93E2-08380DDE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CB67C-54E6-4752-BEE4-410EBB23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AF114-833E-4297-9913-3512F242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0E6390-22F8-4734-8AED-9DE3EA9C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968A6-B44E-489E-8CEF-CE06AB4D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7AAD90-D34F-4D17-BA63-44CA71F3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FC294-DF70-4675-898E-5C0F3288F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0EAD4-5F6D-4721-9E1D-EDA74C66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165ED0-5403-403D-AA1E-111B313C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94A9A-2CDC-4D43-909D-ECE89BD19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D2542-6541-41E9-81DB-8A399AD2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5150F-5E04-47BF-A256-30F9735ECA8A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7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410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5" descr="Overlay-ContentSlides.png"/>
          <p:cNvPicPr/>
          <p:nvPr/>
        </p:nvPicPr>
        <p:blipFill>
          <a:blip r:embed="rId3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8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9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0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4B48-6656-4046-90D9-2731D90F015C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455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4" descr="Overlay-ContentSlides.png"/>
          <p:cNvPicPr/>
          <p:nvPr/>
        </p:nvPicPr>
        <p:blipFill>
          <a:blip r:embed="rId3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B5D3-969A-4412-8FE9-C1BFD705B377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00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8" descr="Overlay-ContentCaption.png"/>
          <p:cNvPicPr/>
          <p:nvPr/>
        </p:nvPicPr>
        <p:blipFill>
          <a:blip r:embed="rId3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dt" idx="34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ftr" idx="35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sldNum" idx="36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03511-85E6-4E9E-BD5E-B76B24972DF0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45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8" descr="Overlay-PictureCaption.png"/>
          <p:cNvPicPr/>
          <p:nvPr/>
        </p:nvPicPr>
        <p:blipFill>
          <a:blip r:embed="rId3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7"/>
          </p:nvPr>
        </p:nvSpPr>
        <p:spPr>
          <a:xfrm>
            <a:off x="388584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8"/>
          </p:nvPr>
        </p:nvSpPr>
        <p:spPr>
          <a:xfrm>
            <a:off x="5866920" y="6288120"/>
            <a:ext cx="267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5859D-12E0-4541-A095-89E8C0D65779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90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9" descr="Overlay-PictureCaption-Extras.png"/>
          <p:cNvPicPr/>
          <p:nvPr/>
        </p:nvPicPr>
        <p:blipFill>
          <a:blip r:embed="rId3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40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41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4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ABBD-3FB0-471E-9CFA-56F639CB1E4D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635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9" descr="Overlay-PictureCaption-Extras.png"/>
          <p:cNvPicPr/>
          <p:nvPr/>
        </p:nvPicPr>
        <p:blipFill>
          <a:blip r:embed="rId3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43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44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4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996C4-0608-4D54-91B4-2550DDD0F5B8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680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7" descr="Overlay-ContentSlides.png"/>
          <p:cNvPicPr/>
          <p:nvPr/>
        </p:nvPicPr>
        <p:blipFill>
          <a:blip r:embed="rId3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dt" idx="4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 type="ftr" idx="4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 type="sldNum" idx="4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282E-34BF-4F56-96E3-7CAF722248B2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4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725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7" descr="Overlay-ContentSlides.png"/>
          <p:cNvPicPr/>
          <p:nvPr/>
        </p:nvPicPr>
        <p:blipFill>
          <a:blip r:embed="rId3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4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5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5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7C82-CC2B-44C9-809A-5F518FDE7E00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46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Overlay-TitleSlide.png"/>
          <p:cNvPicPr/>
          <p:nvPr/>
        </p:nvPicPr>
        <p:blipFill>
          <a:blip r:embed="rId3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CB99-1E6D-4F0B-8D0D-F20AF3F45FC7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91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Overlay-ContentSlides.png"/>
          <p:cNvPicPr/>
          <p:nvPr/>
        </p:nvPicPr>
        <p:blipFill>
          <a:blip r:embed="rId3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1CB96-02C8-48FA-AF6B-5BE8D99416E0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36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7" descr="Overlay-SectionHeader.png"/>
          <p:cNvPicPr/>
          <p:nvPr/>
        </p:nvPicPr>
        <p:blipFill>
          <a:blip r:embed="rId3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50C9-BA05-4F02-901A-ABC5F662926B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81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8" descr="Overlay-ContentSlides.png"/>
          <p:cNvPicPr/>
          <p:nvPr/>
        </p:nvPicPr>
        <p:blipFill>
          <a:blip r:embed="rId3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4252A-A27B-4C35-B7F2-55F573D6EADB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226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3" descr="Overlay-ContentSlides.png"/>
          <p:cNvPicPr/>
          <p:nvPr/>
        </p:nvPicPr>
        <p:blipFill>
          <a:blip r:embed="rId3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28" name="Straight Connector 11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12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4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5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8F8B-A8B4-41B9-9572-E1D499F779E5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275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8" descr="Overlay-ContentSlides.png"/>
          <p:cNvPicPr/>
          <p:nvPr/>
        </p:nvPicPr>
        <p:blipFill>
          <a:blip r:embed="rId3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407AC-A672-4FAB-B61E-1071087C4514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320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8" descr="Overlay-ContentSlides.png"/>
          <p:cNvPicPr/>
          <p:nvPr/>
        </p:nvPicPr>
        <p:blipFill>
          <a:blip r:embed="rId3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0C976-6A6F-43B3-AF91-591612507CD7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ound Diagonal Corner Rectangle 7"/>
          <p:cNvSpPr/>
          <p:nvPr/>
        </p:nvSpPr>
        <p:spPr>
          <a:xfrm>
            <a:off x="190440" y="190440"/>
            <a:ext cx="8764560" cy="6478560"/>
          </a:xfrm>
          <a:custGeom>
            <a:avLst/>
            <a:gdLst/>
            <a:ahLst/>
            <a:rect l="l" t="t" r="r" b="b"/>
            <a:pathLst>
              <a:path w="8764588" h="6478588">
                <a:moveTo>
                  <a:pt x="610024" y="0"/>
                </a:moveTo>
                <a:lnTo>
                  <a:pt x="8764588" y="0"/>
                </a:lnTo>
                <a:lnTo>
                  <a:pt x="8764588" y="0"/>
                </a:lnTo>
                <a:lnTo>
                  <a:pt x="8764588" y="5868564"/>
                </a:lnTo>
                <a:cubicBezTo>
                  <a:pt x="8764588" y="6205471"/>
                  <a:pt x="8491471" y="6478588"/>
                  <a:pt x="8154564" y="6478588"/>
                </a:cubicBezTo>
                <a:lnTo>
                  <a:pt x="0" y="6478588"/>
                </a:lnTo>
                <a:lnTo>
                  <a:pt x="0" y="6478588"/>
                </a:lnTo>
                <a:lnTo>
                  <a:pt x="0" y="610024"/>
                </a:lnTo>
                <a:cubicBezTo>
                  <a:pt x="0" y="273117"/>
                  <a:pt x="273117" y="0"/>
                  <a:pt x="610024" y="0"/>
                </a:cubicBezTo>
                <a:close/>
              </a:path>
            </a:pathLst>
          </a:cu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C:\DATA\マイピクチャ\logo2.jpg"/>
          <p:cNvPicPr/>
          <p:nvPr/>
        </p:nvPicPr>
        <p:blipFill>
          <a:blip r:embed="rId2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365" name="正方形/長方形 9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ＭＳ ゴシック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Overlay-ContentSlides.png"/>
          <p:cNvPicPr/>
          <p:nvPr/>
        </p:nvPicPr>
        <p:blipFill>
          <a:blip r:embed="rId3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38abe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3550-88CD-4CCE-ADF7-11A237B04800}" type="slidenum">
              <a:rPr b="0" lang="ja-JP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08000" y="2204640"/>
            <a:ext cx="9036000" cy="119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QUEST</a:t>
            </a:r>
            <a:r>
              <a:rPr b="0" lang="ja-JP" sz="35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理事連絡会</a:t>
            </a:r>
            <a:br>
              <a:rPr sz="3500"/>
            </a:br>
            <a:r>
              <a:rPr b="0" lang="ja-JP" sz="35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セミナー</a:t>
            </a:r>
            <a:r>
              <a:rPr b="0" lang="en-US" sz="35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,PBL</a:t>
            </a:r>
            <a:endParaRPr b="0" lang="en-US" sz="35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subTitle"/>
          </p:nvPr>
        </p:nvSpPr>
        <p:spPr>
          <a:xfrm>
            <a:off x="684000" y="4292640"/>
            <a:ext cx="7407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2011</a:t>
            </a: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日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QUEST</a:t>
            </a: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　運営・企画室　山下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ffffff"/>
                </a:solidFill>
                <a:latin typeface="Trebuchet MS"/>
              </a:rPr>
              <a:t>プロジェクト型実践演習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1" name="コンテンツ プレースホルダ 2"/>
          <p:cNvSpPr/>
          <p:nvPr/>
        </p:nvSpPr>
        <p:spPr>
          <a:xfrm>
            <a:off x="468360" y="1484280"/>
            <a:ext cx="8351640" cy="36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een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 Challenge </a:t>
            </a:r>
            <a:r>
              <a:rPr b="1" lang="ja-JP" sz="2800" spc="-1" strike="noStrike">
                <a:solidFill>
                  <a:srgbClr val="ffffff"/>
                </a:solidFill>
                <a:latin typeface="Arial"/>
              </a:rPr>
              <a:t>２０１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本大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平成２３年１２月１７日（土）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会場：福岡県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Ruby</a:t>
            </a:r>
            <a:r>
              <a:rPr b="0" lang="ja-JP" sz="20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・コンテンツ産業振興センター　セミナールーム</a:t>
            </a:r>
            <a:r>
              <a:rPr b="0" lang="en-US" sz="2000" spc="-1" strike="noStrike">
                <a:solidFill>
                  <a:srgbClr val="ffffff"/>
                </a:solidFill>
                <a:latin typeface="Gill Sans MT"/>
                <a:ea typeface="HGｺﾞｼｯｸE"/>
              </a:rPr>
              <a:t>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優勝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O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東海大学　初出場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準優勝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大分大学　大分大学　初出場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第三位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CC Racing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　マイクロコート　昨年の優勝チーム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審査員特別賞　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マイスター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r.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　熊本高専熊本キャンパ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初出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ffffff"/>
                </a:solidFill>
                <a:latin typeface="Trebuchet MS"/>
              </a:rPr>
              <a:t>プロジェクト型実践演習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73" name="図 3" descr="P1030021.JPG"/>
          <p:cNvPicPr/>
          <p:nvPr/>
        </p:nvPicPr>
        <p:blipFill>
          <a:blip r:embed="rId1"/>
          <a:stretch/>
        </p:blipFill>
        <p:spPr>
          <a:xfrm>
            <a:off x="4572000" y="4076640"/>
            <a:ext cx="4352760" cy="2448000"/>
          </a:xfrm>
          <a:prstGeom prst="rect">
            <a:avLst/>
          </a:prstGeom>
          <a:ln w="0">
            <a:noFill/>
          </a:ln>
        </p:spPr>
      </p:pic>
      <p:pic>
        <p:nvPicPr>
          <p:cNvPr id="774" name="図 4" descr="P1030007.JPG"/>
          <p:cNvPicPr/>
          <p:nvPr/>
        </p:nvPicPr>
        <p:blipFill>
          <a:blip r:embed="rId2"/>
          <a:stretch/>
        </p:blipFill>
        <p:spPr>
          <a:xfrm>
            <a:off x="179280" y="4076640"/>
            <a:ext cx="4353120" cy="2448000"/>
          </a:xfrm>
          <a:prstGeom prst="rect">
            <a:avLst/>
          </a:prstGeom>
          <a:ln w="0">
            <a:noFill/>
          </a:ln>
        </p:spPr>
      </p:pic>
      <p:pic>
        <p:nvPicPr>
          <p:cNvPr id="775" name="図 5" descr="P1020994.JPG"/>
          <p:cNvPicPr/>
          <p:nvPr/>
        </p:nvPicPr>
        <p:blipFill>
          <a:blip r:embed="rId3"/>
          <a:stretch/>
        </p:blipFill>
        <p:spPr>
          <a:xfrm>
            <a:off x="3195720" y="1700280"/>
            <a:ext cx="2816280" cy="1584360"/>
          </a:xfrm>
          <a:prstGeom prst="rect">
            <a:avLst/>
          </a:prstGeom>
          <a:ln w="0">
            <a:noFill/>
          </a:ln>
        </p:spPr>
      </p:pic>
      <p:pic>
        <p:nvPicPr>
          <p:cNvPr id="776" name="図 6" descr="P1020959.JPG"/>
          <p:cNvPicPr/>
          <p:nvPr/>
        </p:nvPicPr>
        <p:blipFill>
          <a:blip r:embed="rId4"/>
          <a:stretch/>
        </p:blipFill>
        <p:spPr>
          <a:xfrm>
            <a:off x="203040" y="1700280"/>
            <a:ext cx="2976840" cy="2233440"/>
          </a:xfrm>
          <a:prstGeom prst="rect">
            <a:avLst/>
          </a:prstGeom>
          <a:ln w="0">
            <a:noFill/>
          </a:ln>
        </p:spPr>
      </p:pic>
      <p:pic>
        <p:nvPicPr>
          <p:cNvPr id="777" name="図 7" descr="P1030014.JPG"/>
          <p:cNvPicPr/>
          <p:nvPr/>
        </p:nvPicPr>
        <p:blipFill>
          <a:blip r:embed="rId5"/>
          <a:stretch/>
        </p:blipFill>
        <p:spPr>
          <a:xfrm>
            <a:off x="6048360" y="1773360"/>
            <a:ext cx="291636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ffffff"/>
                </a:solidFill>
                <a:latin typeface="Trebuchet MS"/>
              </a:rPr>
              <a:t>先進的組込み教育状況報告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684000" y="1483920"/>
            <a:ext cx="78706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スマートグリッド講座２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HGｺﾞｼｯｸE"/>
              </a:rPr>
              <a:t>平成２４年１月２６日（木） </a:t>
            </a:r>
            <a:r>
              <a:rPr b="0" lang="en-US" sz="1800" spc="-1" strike="noStrike">
                <a:solidFill>
                  <a:srgbClr val="ffffff"/>
                </a:solidFill>
                <a:latin typeface="ＭＳ ゴシック"/>
              </a:rPr>
              <a:t>9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</a:rPr>
              <a:t>時</a:t>
            </a:r>
            <a:r>
              <a:rPr b="0" lang="en-US" sz="1800" spc="-1" strike="noStrike">
                <a:solidFill>
                  <a:srgbClr val="ffffff"/>
                </a:solidFill>
                <a:latin typeface="ＭＳ ゴシック"/>
              </a:rPr>
              <a:t>30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</a:rPr>
              <a:t>分受付　</a:t>
            </a:r>
            <a:r>
              <a:rPr b="0" lang="en-US" sz="1800" spc="-1" strike="noStrike">
                <a:solidFill>
                  <a:srgbClr val="ffffff"/>
                </a:solidFill>
                <a:latin typeface="ＭＳ ゴシック"/>
              </a:rPr>
              <a:t>10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</a:rPr>
              <a:t>時開始</a:t>
            </a:r>
            <a:r>
              <a:rPr b="0" lang="en-US" sz="1800" spc="-1" strike="noStrike">
                <a:solidFill>
                  <a:srgbClr val="ffffff"/>
                </a:solidFill>
                <a:latin typeface="ＭＳ ゴシック"/>
              </a:rPr>
              <a:t>-15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</a:rPr>
              <a:t>時終了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HGｺﾞｼｯｸE"/>
              </a:rPr>
              <a:t>会場：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</a:rPr>
              <a:t>福岡ビジネス創造センター１</a:t>
            </a:r>
            <a:r>
              <a:rPr b="0" lang="en-US" sz="1800" spc="-1" strike="noStrike">
                <a:solidFill>
                  <a:srgbClr val="ffffff"/>
                </a:solidFill>
                <a:latin typeface="ＭＳ ゴシック"/>
              </a:rPr>
              <a:t>F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</a:rPr>
              <a:t>ホール 福岡市東区香椎照葉３</a:t>
            </a:r>
            <a:r>
              <a:rPr b="0" lang="en-US" sz="1800" spc="-1" strike="noStrike">
                <a:solidFill>
                  <a:srgbClr val="ffffff"/>
                </a:solidFill>
                <a:latin typeface="ＭＳ ゴシック"/>
              </a:rPr>
              <a:t>−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</a:rPr>
              <a:t>２</a:t>
            </a:r>
            <a:r>
              <a:rPr b="0" lang="en-US" sz="1800" spc="-1" strike="noStrike">
                <a:solidFill>
                  <a:srgbClr val="ffffff"/>
                </a:solidFill>
                <a:latin typeface="ＭＳ ゴシック"/>
              </a:rPr>
              <a:t>−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</a:rPr>
              <a:t>１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HGｺﾞｼｯｸE"/>
              </a:rPr>
              <a:t>定員６０名　現在申込４６名程度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HGｺﾞｼｯｸE"/>
              </a:rPr>
              <a:t>講師：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0256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ＭＳ ゴシック"/>
              </a:rPr>
              <a:t>1.</a:t>
            </a:r>
            <a:r>
              <a:rPr b="0" lang="en-US" sz="1700" spc="-1" strike="noStrike">
                <a:solidFill>
                  <a:srgbClr val="ffffff"/>
                </a:solidFill>
                <a:latin typeface="ＭＳ ゴシック"/>
              </a:rPr>
              <a:t>『</a:t>
            </a:r>
            <a:r>
              <a:rPr b="0" lang="ja-JP" sz="1700" spc="-1" strike="noStrike">
                <a:solidFill>
                  <a:srgbClr val="ffffff"/>
                </a:solidFill>
                <a:latin typeface="ＭＳ ゴシック"/>
              </a:rPr>
              <a:t>最新のエネルギー制御プロセッサ解説</a:t>
            </a:r>
            <a:r>
              <a:rPr b="0" lang="en-US" sz="1700" spc="-1" strike="noStrike">
                <a:solidFill>
                  <a:srgbClr val="ffffff"/>
                </a:solidFill>
                <a:latin typeface="ＭＳ ゴシック"/>
              </a:rPr>
              <a:t>』 </a:t>
            </a:r>
            <a:r>
              <a:rPr b="0" lang="ja-JP" sz="1900" spc="-1" strike="noStrike">
                <a:solidFill>
                  <a:srgbClr val="ffffff"/>
                </a:solidFill>
                <a:latin typeface="ＭＳ ゴシック"/>
              </a:rPr>
              <a:t>日本テキサス・インスツルメンツ</a:t>
            </a:r>
            <a:r>
              <a:rPr b="0" lang="en-US" sz="1900" spc="-1" strike="noStrike">
                <a:solidFill>
                  <a:srgbClr val="ffffff"/>
                </a:solidFill>
                <a:latin typeface="ＭＳ ゴシック"/>
              </a:rPr>
              <a:t>(</a:t>
            </a:r>
            <a:r>
              <a:rPr b="0" lang="ja-JP" sz="1900" spc="-1" strike="noStrike">
                <a:solidFill>
                  <a:srgbClr val="ffffff"/>
                </a:solidFill>
                <a:latin typeface="ＭＳ ゴシック"/>
              </a:rPr>
              <a:t>株</a:t>
            </a:r>
            <a:r>
              <a:rPr b="0" lang="en-US" sz="1900" spc="-1" strike="noStrike">
                <a:solidFill>
                  <a:srgbClr val="ffffff"/>
                </a:solidFill>
                <a:latin typeface="ＭＳ ゴシック"/>
              </a:rPr>
              <a:t>)</a:t>
            </a:r>
            <a:r>
              <a:rPr b="0" lang="ja-JP" sz="1900" spc="-1" strike="noStrike">
                <a:solidFill>
                  <a:srgbClr val="ffffff"/>
                </a:solidFill>
                <a:latin typeface="ＭＳ ゴシック"/>
              </a:rPr>
              <a:t>営業・技術本部 マーケティング統括部 主事 田原 正之 氏 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lvl="2" marL="10256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ＭＳ ゴシック"/>
              </a:rPr>
              <a:t>2.</a:t>
            </a:r>
            <a:r>
              <a:rPr b="0" lang="en-US" sz="1700" spc="-1" strike="noStrike">
                <a:solidFill>
                  <a:srgbClr val="ffffff"/>
                </a:solidFill>
                <a:latin typeface="ＭＳ ゴシック"/>
              </a:rPr>
              <a:t>『</a:t>
            </a:r>
            <a:r>
              <a:rPr b="0" lang="ja-JP" sz="1700" spc="-1" strike="noStrike">
                <a:solidFill>
                  <a:srgbClr val="ffffff"/>
                </a:solidFill>
                <a:latin typeface="ＭＳ ゴシック"/>
              </a:rPr>
              <a:t>スマートエネルギーシステム制御入門</a:t>
            </a:r>
            <a:r>
              <a:rPr b="0" lang="en-US" sz="1700" spc="-1" strike="noStrike">
                <a:solidFill>
                  <a:srgbClr val="ffffff"/>
                </a:solidFill>
                <a:latin typeface="ＭＳ ゴシック"/>
              </a:rPr>
              <a:t>』 </a:t>
            </a:r>
            <a:r>
              <a:rPr b="0" lang="en-US" sz="1900" spc="-1" strike="noStrike">
                <a:solidFill>
                  <a:srgbClr val="ffffff"/>
                </a:solidFill>
                <a:latin typeface="ＭＳ ゴシック"/>
              </a:rPr>
              <a:t>(</a:t>
            </a:r>
            <a:r>
              <a:rPr b="0" lang="ja-JP" sz="1900" spc="-1" strike="noStrike">
                <a:solidFill>
                  <a:srgbClr val="ffffff"/>
                </a:solidFill>
                <a:latin typeface="ＭＳ ゴシック"/>
              </a:rPr>
              <a:t>株）スマートエナジー研究所 代表取締役社長 　中村 創一郎 氏 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lvl="2" marL="10256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ＭＳ ゴシック"/>
              </a:rPr>
              <a:t>3.</a:t>
            </a:r>
            <a:r>
              <a:rPr b="0" lang="en-US" sz="1900" spc="-1" strike="noStrike">
                <a:solidFill>
                  <a:srgbClr val="ffffff"/>
                </a:solidFill>
                <a:latin typeface="ＭＳ ゴシック"/>
              </a:rPr>
              <a:t>『</a:t>
            </a:r>
            <a:r>
              <a:rPr b="0" lang="en-US" sz="1900" spc="-1" strike="noStrike">
                <a:solidFill>
                  <a:srgbClr val="ffffff"/>
                </a:solidFill>
                <a:latin typeface="ＭＳ ゴシック"/>
              </a:rPr>
              <a:t>Model-Based Design</a:t>
            </a:r>
            <a:r>
              <a:rPr b="0" lang="ja-JP" sz="1900" spc="-1" strike="noStrike">
                <a:solidFill>
                  <a:srgbClr val="ffffff"/>
                </a:solidFill>
                <a:latin typeface="ＭＳ ゴシック"/>
              </a:rPr>
              <a:t>による電源システム制御ソフトウェアの開発</a:t>
            </a:r>
            <a:r>
              <a:rPr b="0" lang="en-US" sz="1900" spc="-1" strike="noStrike">
                <a:solidFill>
                  <a:srgbClr val="ffffff"/>
                </a:solidFill>
                <a:latin typeface="ＭＳ ゴシック"/>
              </a:rPr>
              <a:t>』</a:t>
            </a:r>
            <a:r>
              <a:rPr b="0" lang="en-US" sz="1900" spc="-1" strike="noStrike">
                <a:solidFill>
                  <a:srgbClr val="ffffff"/>
                </a:solidFill>
                <a:latin typeface="ＭＳ ゴシック"/>
              </a:rPr>
              <a:t>dSPACE Japan (</a:t>
            </a:r>
            <a:r>
              <a:rPr b="0" lang="ja-JP" sz="1900" spc="-1" strike="noStrike">
                <a:solidFill>
                  <a:srgbClr val="ffffff"/>
                </a:solidFill>
                <a:latin typeface="ＭＳ ゴシック"/>
              </a:rPr>
              <a:t>株</a:t>
            </a:r>
            <a:r>
              <a:rPr b="0" lang="en-US" sz="1900" spc="-1" strike="noStrike">
                <a:solidFill>
                  <a:srgbClr val="ffffff"/>
                </a:solidFill>
                <a:latin typeface="ＭＳ ゴシック"/>
              </a:rPr>
              <a:t>) </a:t>
            </a:r>
            <a:r>
              <a:rPr b="0" lang="ja-JP" sz="1900" spc="-1" strike="noStrike">
                <a:solidFill>
                  <a:srgbClr val="ffffff"/>
                </a:solidFill>
                <a:latin typeface="ＭＳ ゴシック"/>
              </a:rPr>
              <a:t>技術部 シニアテクニカルエキスパート 城所 仁 氏 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lvl="2" marL="10256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ＭＳ ゴシック"/>
              </a:rPr>
              <a:t>4.</a:t>
            </a:r>
            <a:r>
              <a:rPr b="0" lang="en-US" sz="1700" spc="-1" strike="noStrike">
                <a:solidFill>
                  <a:srgbClr val="ffffff"/>
                </a:solidFill>
                <a:latin typeface="ＭＳ ゴシック"/>
              </a:rPr>
              <a:t>『</a:t>
            </a:r>
            <a:r>
              <a:rPr b="0" lang="ja-JP" sz="1700" spc="-1" strike="noStrike">
                <a:solidFill>
                  <a:srgbClr val="ffffff"/>
                </a:solidFill>
                <a:latin typeface="ＭＳ ゴシック"/>
              </a:rPr>
              <a:t>モデルベースデザインによる</a:t>
            </a:r>
            <a:r>
              <a:rPr b="0" lang="en-US" sz="1700" spc="-1" strike="noStrike">
                <a:solidFill>
                  <a:srgbClr val="ffffff"/>
                </a:solidFill>
                <a:latin typeface="ＭＳ ゴシック"/>
              </a:rPr>
              <a:t>FPGA </a:t>
            </a:r>
            <a:r>
              <a:rPr b="0" lang="ja-JP" sz="1700" spc="-1" strike="noStrike">
                <a:solidFill>
                  <a:srgbClr val="ffffff"/>
                </a:solidFill>
                <a:latin typeface="ＭＳ ゴシック"/>
              </a:rPr>
              <a:t>ソーラー・アレイ・シミュレータの開発</a:t>
            </a:r>
            <a:r>
              <a:rPr b="0" lang="en-US" sz="1700" spc="-1" strike="noStrike">
                <a:solidFill>
                  <a:srgbClr val="ffffff"/>
                </a:solidFill>
                <a:latin typeface="ＭＳ ゴシック"/>
              </a:rPr>
              <a:t>』 </a:t>
            </a:r>
            <a:r>
              <a:rPr b="0" lang="en-US" sz="1600" spc="-1" strike="noStrike">
                <a:solidFill>
                  <a:srgbClr val="ffffff"/>
                </a:solidFill>
                <a:latin typeface="ＭＳ ゴシック"/>
              </a:rPr>
              <a:t>(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</a:rPr>
              <a:t>株</a:t>
            </a:r>
            <a:r>
              <a:rPr b="0" lang="en-US" sz="1600" spc="-1" strike="noStrike">
                <a:solidFill>
                  <a:srgbClr val="ffffff"/>
                </a:solidFill>
                <a:latin typeface="ＭＳ ゴシック"/>
              </a:rPr>
              <a:t>)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</a:rPr>
              <a:t>ＰＡＬＴＥＫ スマートグリッド事業部 テクニカル スペシャリスト 東崎 周平 氏</a:t>
            </a:r>
            <a:r>
              <a:rPr b="0" lang="ja-JP" sz="19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ffffff"/>
                </a:solidFill>
                <a:latin typeface="Trebuchet MS"/>
              </a:rPr>
              <a:t>先進的組込み教育状況報告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95280" y="1828440"/>
            <a:ext cx="8424720" cy="30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</a:rPr>
              <a:t>第一回スマートフォン講座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(iPhone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HGｺﾞｼｯｸE"/>
              </a:rPr>
              <a:t>平成２４年２月１日（水）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HGｺﾞｼｯｸE"/>
              </a:rPr>
              <a:t>会場：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</a:rPr>
              <a:t>福岡県</a:t>
            </a:r>
            <a:r>
              <a:rPr b="0" lang="en-US" sz="2000" spc="-1" strike="noStrike">
                <a:solidFill>
                  <a:srgbClr val="ffffff"/>
                </a:solidFill>
                <a:latin typeface="ＭＳ ゴシック"/>
              </a:rPr>
              <a:t>Ruby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</a:rPr>
              <a:t>・コンテンツ産業振興センター５階　セミナールーム 住所：福岡市博多区博多駅東</a:t>
            </a:r>
            <a:r>
              <a:rPr b="0" lang="en-US" sz="2000" spc="-1" strike="noStrike">
                <a:solidFill>
                  <a:srgbClr val="ffffff"/>
                </a:solidFill>
                <a:latin typeface="ＭＳ ゴシック"/>
              </a:rPr>
              <a:t>1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</a:rPr>
              <a:t>丁目</a:t>
            </a:r>
            <a:r>
              <a:rPr b="0" lang="en-US" sz="2000" spc="-1" strike="noStrike">
                <a:solidFill>
                  <a:srgbClr val="ffffff"/>
                </a:solidFill>
                <a:latin typeface="ＭＳ ゴシック"/>
              </a:rPr>
              <a:t>17-1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HGｺﾞｼｯｸE"/>
              </a:rPr>
              <a:t>定員２０名　現在申込２１名　受付</a:t>
            </a:r>
            <a:r>
              <a:rPr b="0" lang="en-US" sz="2000" spc="-1" strike="noStrike">
                <a:solidFill>
                  <a:srgbClr val="ffffff"/>
                </a:solidFill>
                <a:latin typeface="ＭＳ ゴシック"/>
                <a:ea typeface="HGｺﾞｼｯｸE"/>
              </a:rPr>
              <a:t>STOP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HGｺﾞｼｯｸE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ＭＳ ゴシック"/>
                <a:ea typeface="HGｺﾞｼｯｸE"/>
              </a:rPr>
              <a:t>MAC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HGｺﾞｼｯｸE"/>
              </a:rPr>
              <a:t>不足）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HGｺﾞｼｯｸE"/>
              </a:rPr>
              <a:t>講師：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</a:rPr>
              <a:t>株式会社　ネクストシステム システム開発部　シニアマネージャ／チーフプロデューサ　木村　晋宏　氏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</a:rPr>
              <a:t>実演：株式会社　ネクストシステム 大神　剛　氏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82" name="正方形/長方形 6" descr=""/>
          <p:cNvPicPr/>
          <p:nvPr/>
        </p:nvPicPr>
        <p:blipFill>
          <a:blip r:embed="rId1"/>
          <a:stretch/>
        </p:blipFill>
        <p:spPr>
          <a:xfrm>
            <a:off x="6211800" y="1536840"/>
            <a:ext cx="176220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ffffff"/>
                </a:solidFill>
                <a:latin typeface="Trebuchet MS"/>
              </a:rPr>
              <a:t>先進的組込み教育状況報告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395280" y="1828440"/>
            <a:ext cx="8424720" cy="30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</a:rPr>
              <a:t>第二回スマートフォン講座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(Android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HGｺﾞｼｯｸE"/>
              </a:rPr>
              <a:t>平成２４年２月３日（金）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HGｺﾞｼｯｸE"/>
              </a:rPr>
              <a:t>会場：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</a:rPr>
              <a:t>福岡県</a:t>
            </a:r>
            <a:r>
              <a:rPr b="0" lang="en-US" sz="2000" spc="-1" strike="noStrike">
                <a:solidFill>
                  <a:srgbClr val="ffffff"/>
                </a:solidFill>
                <a:latin typeface="ＭＳ ゴシック"/>
              </a:rPr>
              <a:t>Ruby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</a:rPr>
              <a:t>・コンテンツ産業振興センター５階　セミナールーム 住所：福岡市博多区博多駅東</a:t>
            </a:r>
            <a:r>
              <a:rPr b="0" lang="en-US" sz="2000" spc="-1" strike="noStrike">
                <a:solidFill>
                  <a:srgbClr val="ffffff"/>
                </a:solidFill>
                <a:latin typeface="ＭＳ ゴシック"/>
              </a:rPr>
              <a:t>1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</a:rPr>
              <a:t>丁目</a:t>
            </a:r>
            <a:r>
              <a:rPr b="0" lang="en-US" sz="2000" spc="-1" strike="noStrike">
                <a:solidFill>
                  <a:srgbClr val="ffffff"/>
                </a:solidFill>
                <a:latin typeface="ＭＳ ゴシック"/>
              </a:rPr>
              <a:t>17-1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HGｺﾞｼｯｸE"/>
              </a:rPr>
              <a:t>定員２０名　現在申込２１名　受付</a:t>
            </a:r>
            <a:r>
              <a:rPr b="0" lang="en-US" sz="2000" spc="-1" strike="noStrike">
                <a:solidFill>
                  <a:srgbClr val="ffffff"/>
                </a:solidFill>
                <a:latin typeface="ＭＳ ゴシック"/>
                <a:ea typeface="HGｺﾞｼｯｸE"/>
              </a:rPr>
              <a:t>STOP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HGｺﾞｼｯｸE"/>
              </a:rPr>
              <a:t>（</a:t>
            </a:r>
            <a:r>
              <a:rPr b="0" lang="en-US" sz="2000" spc="-1" strike="noStrike">
                <a:solidFill>
                  <a:srgbClr val="ffffff"/>
                </a:solidFill>
                <a:latin typeface="ＭＳ ゴシック"/>
                <a:ea typeface="HGｺﾞｼｯｸE"/>
              </a:rPr>
              <a:t>PC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HGｺﾞｼｯｸE"/>
              </a:rPr>
              <a:t>不足）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HGｺﾞｼｯｸE"/>
              </a:rPr>
              <a:t>講師：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</a:rPr>
              <a:t>株式会社　ネクストシステム システム開発部　シニアマネージャ／チーフプロデューサ　木村　晋宏　氏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</a:rPr>
              <a:t>実演：株式会社　ネクストシステム　</a:t>
            </a: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山内　徹　氏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85" name="正方形/長方形 1" descr=""/>
          <p:cNvPicPr/>
          <p:nvPr/>
        </p:nvPicPr>
        <p:blipFill>
          <a:blip r:embed="rId1"/>
          <a:stretch/>
        </p:blipFill>
        <p:spPr>
          <a:xfrm>
            <a:off x="6211800" y="1536840"/>
            <a:ext cx="1762200" cy="85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800" spc="-1" strike="noStrike">
                <a:solidFill>
                  <a:srgbClr val="ffffff"/>
                </a:solidFill>
                <a:latin typeface="Trebuchet MS"/>
              </a:rPr>
              <a:t>先進的組込み教育状況報告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755280" y="1557000"/>
            <a:ext cx="75834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Trebuchet MS"/>
              </a:rPr>
              <a:t>ハイレベルセミナー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日時　平成２４年２月１０日（金）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場所　福岡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RP</a:t>
            </a: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センタービル　２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</a:t>
            </a: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ホール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定員　１００名　現在申込（関係者含む）４５名程度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ご協力お願いします。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基調講演　インターネット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ITS</a:t>
            </a: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協議会　事務局長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時津氏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「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TS</a:t>
            </a: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における自動車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IT</a:t>
            </a: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化の方向」</a:t>
            </a:r>
            <a:br>
              <a:rPr sz="1800"/>
            </a:b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～自動車クラウド時代への対応～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招待講演１　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㈱</a:t>
            </a: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ネクストシステム　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CEO </a:t>
            </a: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藤田氏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R</a:t>
            </a: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（拡張現実）およびモーションシステムを使った最新事例のご紹介」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招待講演２（九州工業大学　准教授</a:t>
            </a: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ja-JP" sz="2000" spc="-1" strike="noStrike">
                <a:solidFill>
                  <a:srgbClr val="ffffff"/>
                </a:solidFill>
                <a:latin typeface="Trebuchet MS"/>
              </a:rPr>
              <a:t>田中様）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「軽量</a:t>
            </a: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Ruby</a:t>
            </a:r>
            <a:r>
              <a:rPr b="0" lang="ja-JP" sz="1800" spc="-1" strike="noStrike">
                <a:solidFill>
                  <a:srgbClr val="ffffff"/>
                </a:solidFill>
                <a:latin typeface="Trebuchet MS"/>
              </a:rPr>
              <a:t>の活用法」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0:29:00Z</dcterms:created>
  <dc:creator>yamashita</dc:creator>
  <dc:description/>
  <dc:language>en-US</dc:language>
  <cp:lastModifiedBy>山下 直仁</cp:lastModifiedBy>
  <dcterms:modified xsi:type="dcterms:W3CDTF">2012-01-18T08:39:44Z</dcterms:modified>
  <cp:revision>317</cp:revision>
  <dc:subject/>
  <dc:title>ETロボコン2009 九州地区反省と来年度について</dc:title>
</cp:coreProperties>
</file>