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FD7D-3A2D-4659-9777-9EBC5A4F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FFB7-C537-4D85-9CED-29F8CF83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684B9-0E85-448C-A313-37D20052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5D5A7-CFEA-44AA-A00B-FDA65FC8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A8EA7-37DF-4427-97A5-14ACB0C5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00448-0584-4A16-A40A-30638806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9CC00-F1CD-43E4-A9EC-2614D0DC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C29ED-F3E0-481B-8E02-440773BB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5D47F-673F-4833-A472-FE4B6D44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B835E-B3EC-4DDB-8961-BAD0B98D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7892A-D26E-4128-9859-439394347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FE71D-BE2A-4F27-BEFE-BAA15DCF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A6F7-5FF0-4E09-A5AE-8E308973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4CD0F-F58C-41D4-973A-479B6D15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F309A-D90B-4115-A546-0922DB32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AB333-068E-43DB-A5D7-87C74208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9EED5-E584-47E6-956F-0A266E35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86C48-EFFA-4D75-919C-92CEF62B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17E59-501E-42A6-AE43-991804E9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45442-6583-4889-9C7E-641F5A04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AB887-A429-4327-86C3-A5422ECA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61401-3E35-4B4B-9111-C586C1D8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7522F-BC6F-4047-B8D7-0C576331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3DC0-2F35-48CE-ABB5-D3D2E2BC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28B8E-A899-4B21-8B9F-A6FBEED6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1E1A6-1F93-4C5F-AAC0-C6D66270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65140-1072-4473-AB46-0FAAE1FF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AD9FD-0EAB-46FF-9F18-9A31EB00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14728-6DA5-445A-B324-B73CDDF4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0C21B-36E7-421C-AFFD-72DE02D3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B8ACA-1BAB-4C48-8FB0-32C348E6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86C19-14AA-4FFB-9D0E-F61B3EA7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906E6-190A-4EFD-A920-6BF7E5D8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AE34A-F646-45BD-BDBC-D5113C3E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E21E1-27FB-4888-9BB0-AB2678A2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58FC7-9C8C-4127-90EB-3504C9A1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67341-1C4D-4D15-BBE5-A1CAE736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4D6E4-B2EF-497D-8C51-BF5C9F76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972DA-77BB-4EF6-981B-7E180854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B40F8-B6D9-4AA4-ADF7-049BF16C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657E6-5804-4B1B-8891-03C3C04E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39DB6-EA5E-4191-AE82-ACD5EBCA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11A0A-DC89-49BF-9B6C-A4E7FEAF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984E2-8426-474F-8FC7-F39256C6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E37CB-A772-4B3E-B582-3857DEB0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04260-A3B0-4150-A8E8-FBF4DC2B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CE831-E9B4-4DC2-8710-5066B9D1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4B267-97E4-4723-92E3-631913F3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913C2-6B66-4FB0-9DF9-862F0A4F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B87D3-18C2-4FAA-B213-8234E54F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A0F53-CEA7-4A0E-9FCA-5362211F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588768-0D59-4A78-82B5-EF30CA96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AC6FA2-945F-469E-A838-2CA88B76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A90BE-702C-4BA5-BE32-C713DAD9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6B948C-D29D-4A76-A574-77C0CC57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6CB4C-9A11-42EE-BE82-75B18ECB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06B8D-9481-4B0E-9294-0693A112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2B7AC9-2DAF-40E3-9595-8B55A844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6B4A35-E807-4D51-85B9-9CE510B0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D97162-5199-4EFC-8CCF-CB1BA73A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FEBBCF-B299-4845-ACC6-E22AB9BE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6655C1-B3F1-481D-8330-3E6A2065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43F6CA-91FD-4B76-BA61-C5F836ED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56C6DE-428F-4058-8365-73FBAA27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45391-1CE2-40D7-9797-586F0A68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E835BD-FC5B-48A9-B5E1-573BA38D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816398-6056-46A0-94BC-30689337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9A20F-D17F-4679-99CE-31082AB0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C3D614-1CB4-4A1B-8F5E-C10190B9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8AD735-A630-48F1-B1CE-5F3DD1BD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AA9EE5-3A6E-473A-9F59-3BA14C3C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06CC8B-DCCA-46D2-B038-83316FEF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DD6710-61D7-4DCF-92C7-360862A7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5ED69C-8B6C-48D3-9E14-077A2370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F10B49-1C6B-4A7E-8C7E-5C4C8E3A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AF9025-8520-488C-8B36-98122EA7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E938F8-827F-4D74-8870-CBF6BC10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A45A33-0FFE-474C-BA1A-1DDA7D48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E2E7D-FC0F-4C61-B621-60A9ED72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45A4E4-F33F-42D7-9129-2FC05007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12CF7A-A853-432A-BE9A-BC060297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331797-B908-4502-B5C3-5DEF7CC2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D751A5-D287-40CC-8975-E02A95B7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75351C-6967-49FE-8541-24D9764B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C8DA84-69EC-49C1-8E92-55638524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DE286C-FE84-4891-B279-FF2677EA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8EDBE0-34C2-4417-8896-FD2C2D0C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83D110-B89E-4E83-9EEB-9410B842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71BA5B-5D0F-47F3-A48C-2FD58A40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FD367-6086-4740-81E5-8A8329DF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7F1068-F6A2-4FDB-9FDA-CD329B41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568FA1-A667-4291-8CF0-03958AEA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366B54-1868-48A9-A575-654B2B81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C4907A-6109-442A-9B17-41BE55C3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67391F-E3EA-4C6B-864D-E0524869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B9B74E-35EA-49A0-9E91-2C99368D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CA0904-5D5B-4DEA-9334-F033D127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A7C605-C5B9-40CB-A503-A77A82F6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FF2035-58D5-42A5-A4A0-A541646B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13C17C-65E2-4CCF-8F58-33A39861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1F5EA-3AF4-47EF-A534-0DD46EDB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B8F8CB-372C-4D2C-82CD-4059C7DD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BA356D-E2A7-46AE-919C-1A01F170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FBEC61-AB90-462C-9C16-3F88608F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F0E0CB-DD80-4B89-85C5-D6BD7AAF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CA8560-6C20-4E78-8804-99C0F1D9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0C3D1A-AD2D-459C-91F5-C7CC7EA5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8EE540-06A8-4D75-962D-185FD3F0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D83168-8133-4DFA-8AE5-5F764DE8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D09CF7-63F2-4119-8CBB-F85FA414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D17658-3F22-4C70-B236-6EA865B5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D79A-6DFF-4096-BA19-DC56641E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4EEDB-44C3-4328-9DCD-AC6F2833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925473-D602-4FA7-90B1-471CB4F1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DE0D2F-176C-4C25-9D6E-7D5EFA55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F89D74-C072-480E-8321-6A6BEF67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D6B7DB-4D09-4A4B-8B19-4F91BABD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44A509-29E1-4981-8F2A-EA905985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8B1FC-A586-441E-ACC1-4D8D528D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6ECFF-EFA2-46F1-856D-AB1B60F5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86A83-3182-4238-940F-3FD064A7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738DF-D872-4C0E-B53A-B696EC48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2CDAE-D598-4B6F-827C-72CE12C3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EA79C-669D-4D84-B438-DC8432ED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2E03F-6703-429D-ACAB-B5F0E057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2EC72-4F9C-4B19-93EE-DE16527E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499CC-FB0B-42C5-AB34-D5ECF320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A9A3-C697-4814-B2BB-5B9C6FBB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97CFD-5F54-458A-B1AD-7BE35653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9F60C-F518-4639-BDE1-CFACEE01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F9104-D506-47CB-9DDE-929EF9C2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B3423-B34D-4401-BB1A-6C8B4891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53BF2-C1DF-4FFA-9B7D-E58519F3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CA281-8FA8-4FD7-895B-6B06DD04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12A88-99FB-4209-908F-F0467029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4C2FF-87B7-44E8-B3CA-45B240D8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24C9F-6F7A-4F3A-9E64-F143A2E6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62BEE-F143-4A1F-B893-560BAC7B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996A-8D4B-4D29-8607-CA4E9118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10BC7-1658-484C-81D7-4FDC1D7D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6ED40-9FCE-4DE2-B5AE-AF22BE89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206AE-BB24-4CB0-87A1-60327572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B6053-F0CF-4E61-9147-F6546327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1F84F-CF6F-4CBE-876C-3DBDF811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C177A-09D6-47DB-B5A8-8AA9EA8F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5DF21-C812-4DD4-A18B-47169945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E0A8E-96E6-4028-B487-2E234FAF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76476-DAAB-4AD2-9CCD-90A097B9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A1E51-433E-4C83-847F-45123784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0E89-D81E-48CC-A0D0-CF8AD5DE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3688E-6C51-44ED-9B19-E8A510F3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84084-F9C7-49B0-AB69-AF1F7F57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1E055-5567-4EE6-B4E4-80554C0A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AC9B8-D311-4081-B059-5BBE50D1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E3E23-DF52-4FAD-93BF-12DEA771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4529D-6BD0-43E7-BB9C-32EEC5BF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A125A-B0C0-4376-BA8C-4959F2D3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1C059-0622-4BF6-A29E-285CBC40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9BE91-8929-4643-8B00-9278556D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9B7CC-BC9D-4344-AFB4-A723D5FD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D5F0-6F9E-4D9C-B1C8-6F078E3C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FDA2E-7B73-4A84-B2EB-30A6BA67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3F90E-F464-447F-8E2A-80615F82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3F02F-9469-4083-BE88-098EA654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33841-C89D-4E57-B715-E047456A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4A53C-910C-4B5F-9EC0-64124AC1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AD47E-D4E8-465B-8364-2CA58012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331E1-0552-406E-8F99-4E538C18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6076E-4A18-4647-ACAA-104D90CA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44945-5970-4310-9BBD-1ADD3834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5C276-E4CF-49FE-BBFE-056A7CF5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A0C1-C237-41C5-B0FB-B90DE68B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69DA7-DCF8-47D6-BF79-506DB85D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018CC-520C-4703-BDAF-C921853A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52F03-17C5-48F8-AE44-63E4EFEF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49CC1-BFE8-4BAC-AB80-C00D1945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E3396-C2E7-49D6-BFEB-5E85BAD7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A32E6-40E7-4A18-A6B5-B7E9F6B5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AFD06-09EC-44B6-8FDA-AB836D18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DB52D-1B5F-4960-BA33-46E1B0CF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6E629-013F-4C14-A0F9-F34A7D30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51A72-7F7E-4882-9BAE-3E9A4E1E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E5C9-EEB4-431B-9BE1-D8070DA1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471C5-5156-4BFA-BE04-4E9ED1A2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76635-F8E3-4888-AD14-3A043326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4DB54-3055-4913-8EA5-BD7122A3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2D820-96B7-42CA-8FE3-B158CD84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3D26D-A571-4AC0-B3B4-3F5BB123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07CF6-A21D-470A-9E95-F933A80D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9E116-5882-406F-81CF-CD207EF9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8E978-9CA4-4A1C-92B1-E91B4AC1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58C85-5A29-4A6A-95D8-FCE1ECB4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1C920-94EF-459A-96D9-D09710A0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162D-4D10-4BF1-A4B8-6D29D9A5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56A85-883A-49BC-8FEB-0E649547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ADE57-04B7-4DE4-A993-1ED64ACC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D8B70-ACB6-424D-9748-F425F305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DB61B-25F9-4877-AC92-A823C3E5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FA25B-9A14-4F7A-852D-C3B8873B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D3F2F-160D-401C-A78A-82FCDAF5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89E0E-DBDB-4994-9D90-C1EC7F4F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D9577-1142-4B9E-9590-6F8F4A3A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EDF2D-B7AC-4370-A4F5-C7A87B15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0E678-2C2C-4421-A719-B224516C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EBFF-CBB1-418F-8680-7385737AC633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7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410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5" descr="Overlay-ContentSlides.png"/>
          <p:cNvPicPr/>
          <p:nvPr/>
        </p:nvPicPr>
        <p:blipFill>
          <a:blip r:embed="rId3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983F-C155-4A95-B4B7-66168A80D600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455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Overlay-ContentSlides.png"/>
          <p:cNvPicPr/>
          <p:nvPr/>
        </p:nvPicPr>
        <p:blipFill>
          <a:blip r:embed="rId3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E4C8-8EAF-43EA-9D4C-E55BC060CF83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00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8" descr="Overlay-ContentCaption.png"/>
          <p:cNvPicPr/>
          <p:nvPr/>
        </p:nvPicPr>
        <p:blipFill>
          <a:blip r:embed="rId3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4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5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6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21B2-C511-448E-8B38-F46B5DB25B8E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45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8" descr="Overlay-PictureCaption.png"/>
          <p:cNvPicPr/>
          <p:nvPr/>
        </p:nvPicPr>
        <p:blipFill>
          <a:blip r:embed="rId3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7"/>
          </p:nvPr>
        </p:nvSpPr>
        <p:spPr>
          <a:xfrm>
            <a:off x="388584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8"/>
          </p:nvPr>
        </p:nvSpPr>
        <p:spPr>
          <a:xfrm>
            <a:off x="5866920" y="6288120"/>
            <a:ext cx="267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27D8-99BD-4C17-B080-F3D7AF769D59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90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9" descr="Overlay-PictureCaption-Extras.png"/>
          <p:cNvPicPr/>
          <p:nvPr/>
        </p:nvPicPr>
        <p:blipFill>
          <a:blip r:embed="rId3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40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41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4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0B82-2989-4B62-9DA1-16CD0D0989B1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635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9" descr="Overlay-PictureCaption-Extras.png"/>
          <p:cNvPicPr/>
          <p:nvPr/>
        </p:nvPicPr>
        <p:blipFill>
          <a:blip r:embed="rId3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43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44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4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BFEB-FE8A-455C-8BD0-C90EBFE66F5B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680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7" descr="Overlay-ContentSlides.png"/>
          <p:cNvPicPr/>
          <p:nvPr/>
        </p:nvPicPr>
        <p:blipFill>
          <a:blip r:embed="rId3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4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4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4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A07D-18EC-49E0-B8D6-3F92A12F9A31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725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7" descr="Overlay-ContentSlides.png"/>
          <p:cNvPicPr/>
          <p:nvPr/>
        </p:nvPicPr>
        <p:blipFill>
          <a:blip r:embed="rId3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4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5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5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B887-0329-46E8-83E7-5E7D21AF2433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46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Overlay-TitleSlide.png"/>
          <p:cNvPicPr/>
          <p:nvPr/>
        </p:nvPicPr>
        <p:blipFill>
          <a:blip r:embed="rId3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B056-F84E-4906-8FA8-EB638ECDF5E0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91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Overlay-ContentSlides.png"/>
          <p:cNvPicPr/>
          <p:nvPr/>
        </p:nvPicPr>
        <p:blipFill>
          <a:blip r:embed="rId3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389C-100F-400C-AD28-075A9787C13E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36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Overlay-SectionHeader.png"/>
          <p:cNvPicPr/>
          <p:nvPr/>
        </p:nvPicPr>
        <p:blipFill>
          <a:blip r:embed="rId3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0F05-4C5D-4BB5-8B66-2793B3898864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81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Overlay-ContentSlides.png"/>
          <p:cNvPicPr/>
          <p:nvPr/>
        </p:nvPicPr>
        <p:blipFill>
          <a:blip r:embed="rId3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8652-1B81-43CC-BF08-861D16EFAD1D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226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3" descr="Overlay-ContentSlides.png"/>
          <p:cNvPicPr/>
          <p:nvPr/>
        </p:nvPicPr>
        <p:blipFill>
          <a:blip r:embed="rId3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28" name="Straight Connector 11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2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4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5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FF1E-1048-4BE6-89E3-AA051D9B83C8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275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8" descr="Overlay-ContentSlides.png"/>
          <p:cNvPicPr/>
          <p:nvPr/>
        </p:nvPicPr>
        <p:blipFill>
          <a:blip r:embed="rId3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169A-61EA-4B67-869A-9E43618D690F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320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8" descr="Overlay-ContentSlides.png"/>
          <p:cNvPicPr/>
          <p:nvPr/>
        </p:nvPicPr>
        <p:blipFill>
          <a:blip r:embed="rId3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C0A6-5A36-4701-91C4-6AC056285734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365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Overlay-ContentSlides.png"/>
          <p:cNvPicPr/>
          <p:nvPr/>
        </p:nvPicPr>
        <p:blipFill>
          <a:blip r:embed="rId3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4180-25E2-4C83-BBF1-B7D0C02BF63E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8000" y="2204640"/>
            <a:ext cx="9036000" cy="119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QUEST</a:t>
            </a:r>
            <a:r>
              <a:rPr b="0" lang="ja-JP" sz="35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理事連絡会</a:t>
            </a:r>
            <a:br>
              <a:rPr sz="3500"/>
            </a:br>
            <a:r>
              <a:rPr b="0" lang="ja-JP" sz="35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セミナー</a:t>
            </a:r>
            <a:r>
              <a:rPr b="0" lang="en-US" sz="35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,PBL</a:t>
            </a: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684000" y="4292640"/>
            <a:ext cx="7407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2011</a:t>
            </a: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5</a:t>
            </a: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20</a:t>
            </a: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日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QUEST</a:t>
            </a: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　運営・企画室　山下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ffffff"/>
                </a:solidFill>
                <a:latin typeface="Trebuchet MS"/>
              </a:rPr>
              <a:t>先進的組込み教育状況報告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826920" y="1483920"/>
            <a:ext cx="75837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画像処理技術者講座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平成２３年４月２５日（月） 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会場：福岡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SRP</a:t>
            </a:r>
            <a:r>
              <a:rPr b="0" lang="ja-JP" sz="20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センタービル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定員２０名　参加者　１２名（当日参加含む）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キャンセル：７名　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講師：平塚技術事務所　平塚様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今後受けたい講座：上級向け画像処理アプリ、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Ubuntu,Android,MeeGo,ITRON</a:t>
            </a:r>
            <a:r>
              <a:rPr b="0" lang="ja-JP" sz="22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等のポーティング、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FPGA</a:t>
            </a:r>
            <a:r>
              <a:rPr b="0" lang="ja-JP" sz="22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の初期、導入講座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772" name="Object 4"/>
          <p:cNvGraphicFramePr/>
          <p:nvPr/>
        </p:nvGraphicFramePr>
        <p:xfrm>
          <a:off x="468360" y="4870440"/>
          <a:ext cx="2700360" cy="187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870440"/>
                    <a:ext cx="270036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4" name="Object 5"/>
          <p:cNvGraphicFramePr/>
          <p:nvPr/>
        </p:nvGraphicFramePr>
        <p:xfrm>
          <a:off x="3132000" y="4888080"/>
          <a:ext cx="2951280" cy="1854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7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4888080"/>
                    <a:ext cx="2951280" cy="18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6" name="Object 6"/>
          <p:cNvGraphicFramePr/>
          <p:nvPr/>
        </p:nvGraphicFramePr>
        <p:xfrm>
          <a:off x="6084720" y="4870440"/>
          <a:ext cx="2881440" cy="1871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7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4720" y="4870440"/>
                    <a:ext cx="28814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図 2" descr=""/>
          <p:cNvPicPr/>
          <p:nvPr/>
        </p:nvPicPr>
        <p:blipFill>
          <a:blip r:embed="rId1"/>
          <a:stretch/>
        </p:blipFill>
        <p:spPr>
          <a:xfrm>
            <a:off x="6227640" y="1557360"/>
            <a:ext cx="2698920" cy="1685880"/>
          </a:xfrm>
          <a:prstGeom prst="rect">
            <a:avLst/>
          </a:prstGeom>
          <a:ln w="0">
            <a:noFill/>
          </a:ln>
        </p:spPr>
      </p:pic>
      <p:pic>
        <p:nvPicPr>
          <p:cNvPr id="779" name="図 3" descr="PIC_0007.JPG"/>
          <p:cNvPicPr/>
          <p:nvPr/>
        </p:nvPicPr>
        <p:blipFill>
          <a:blip r:embed="rId2"/>
          <a:stretch/>
        </p:blipFill>
        <p:spPr>
          <a:xfrm>
            <a:off x="6300720" y="3357720"/>
            <a:ext cx="2638440" cy="197928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ffffff"/>
                </a:solidFill>
                <a:latin typeface="Trebuchet MS"/>
              </a:rPr>
              <a:t>プロジェクト型実線演習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583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Green ET Challege2011(GETC2011)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基本モデルの作成＋計測システムの作成終了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プロモーション用動画の作成終了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福岡市から動画サイトへのアップロード許諾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QUEST</a:t>
            </a: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ホームページに専用ページ作成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学校訪問計画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熊本高専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,</a:t>
            </a: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東海大学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,</a:t>
            </a: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九州技術教育専門学校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,</a:t>
            </a: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大分高専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,</a:t>
            </a:r>
            <a:br>
              <a:rPr sz="1800"/>
            </a:b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大分大学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,</a:t>
            </a: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鹿児島大学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,</a:t>
            </a: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宮崎大学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,</a:t>
            </a: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九州大学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,</a:t>
            </a: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北九州</a:t>
            </a:r>
            <a:br>
              <a:rPr sz="1800"/>
            </a:b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市立大学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,</a:t>
            </a: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九州産業大学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,</a:t>
            </a: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麻生情報ビジネス専門学校</a:t>
            </a:r>
            <a:br>
              <a:rPr sz="1800"/>
            </a:b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へアポ取り開始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東海大学、九州技術教育専門学校、宮崎大学、</a:t>
            </a:r>
            <a:br>
              <a:rPr sz="1800"/>
            </a:b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北九州市立大学、熊本高専、大分大学</a:t>
            </a:r>
            <a:br>
              <a:rPr sz="1800"/>
            </a:b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大分高専は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5</a:t>
            </a: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月および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6</a:t>
            </a: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月に訪問決定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6</a:t>
            </a: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9</a:t>
            </a: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日に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KKR</a:t>
            </a: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ホテル熊本において「高校生お仕事体験フェア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2001</a:t>
            </a: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」に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KTEC</a:t>
            </a: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枠で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GETC2011</a:t>
            </a: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のデモを行う予定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0:29:00Z</dcterms:created>
  <dc:creator>yamashita</dc:creator>
  <dc:description/>
  <dc:language>en-US</dc:language>
  <cp:lastModifiedBy>yamashitaMac</cp:lastModifiedBy>
  <dcterms:modified xsi:type="dcterms:W3CDTF">2011-05-20T07:29:29Z</dcterms:modified>
  <cp:revision>266</cp:revision>
  <dc:subject/>
  <dc:title>ETロボコン2009 九州地区反省と来年度について</dc:title>
</cp:coreProperties>
</file>