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443C-1F0B-4A15-9758-8D8CD608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CEFE-3FCE-4E44-9AB3-8D94928A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D11-019B-4543-B73A-E177109B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6CA-9FAF-4B85-B1CA-73F13AE4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C691-7650-49E2-8C25-A372C4E0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8525-D346-4788-83FD-9B824364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B544-41C6-44BB-824D-5774D107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5C98-1261-49C4-91D9-C36C8866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CAFF-7DCF-40C9-95E0-22DF757E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5CFE-9F2A-4EFB-8C51-FDB79019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F276-78F6-41E0-943D-83C534A3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BB06-5C47-4D9B-9352-2E85ACFE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FDCB-E45E-42A4-94BD-31DA22AF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C819-C7BD-46F1-A5B0-36CB69A7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FC4D-7C09-4FAA-8818-F94B2906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B629-385B-4F20-9578-5952D114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D533-8DA8-4129-A2CB-E5D27BD8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8C243-873F-4A4D-A18C-65436883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190DD-CBE7-4891-A7AF-82CDC682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7AC1C-2A5E-4FDE-8EC3-EA7D33E2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9F0E6-A197-4B55-86B4-A7A827A1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EC26C-7F20-4687-BB11-7A5FECB6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1606-7800-4844-9B56-67FF90B3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AEC46-B606-4396-AEB3-B8B0940F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31103-7FD6-46AE-8FCA-7FB4C7F6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277D4-DC22-4685-8887-C8121A1D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B924A-3CAC-4DAF-882B-5C0BCA73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34683-A8B0-49EF-9073-4E8A35A4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5268D-648B-40B8-B7C9-607785EA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8F73-FC13-4F6A-9C60-F6866CC3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7643C-AFC4-4D19-9E3A-D8E4BE99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411E5-1F93-456A-AAC7-837B5253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62145-1098-44D3-86C2-9ED5F54B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71C5-040C-4B81-A44C-FE8A3D75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E3DB8-4A56-46FC-8DD3-6ADD4ECD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6A8D8-D5DD-4A10-942F-7AAD9EF4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4ED85-3252-42ED-8147-2288A1DB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43304-C623-464F-9B61-07A51C6D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9E2B7-05B0-4F92-8F69-EEBD1B88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7EF9B-1BD8-4F8C-91CE-BE5AEBEB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70919-8AA0-4B0D-BCED-583ACF17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01A3C-06B3-48F9-84A6-7BBD1981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A8B92-7FFC-417D-9193-00E806C7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C4098-30A3-4DFF-9E7A-B604BCE4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0589-DC02-4530-BC3F-2470EE8A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4B99C-1CE1-4E97-B17C-F21C850E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92E42-AC57-4DF0-A6B8-1E97CA15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95E0A-CB9C-4AB7-8D39-C9AA7237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A15AB-2E1E-4FCF-BD39-87006BA9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66AB9-EDA2-4335-9AA0-EF22ABB4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6FAC3-74FA-4FA4-9667-31E89D90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98E4E-EF33-44EE-8827-854FDEE8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2E62E-3862-4A35-A4A9-1CC8AF47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A4BAC-8A21-4C90-82E8-259E036A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AC932-EC6A-419A-8C6E-503F700D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E0B4-81F8-41C1-8D9C-FA1EFDE8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516C5-0496-4704-92E6-B2395BBA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ED1AD-560B-44D2-AFCC-1F958245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85770-A030-472E-962C-A91E626D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3BB9F-B050-4E7F-8515-19B31DBE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4B17B-BE06-4193-9A8D-16F484CC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79050-AACA-4586-A413-DD24FE31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A5006-9F78-457D-A574-B8568524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267F1-CB48-4D10-9D99-DD7380BA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3F9BB-83AB-4486-839C-33CC7802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43F88-526F-4F89-8E40-D3AF89B5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BFA-B8C3-4814-8DAC-02E819F0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FA64E-5D6A-42FD-8399-9A92180B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D8D5A-5E09-4FA1-ADB7-81220170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A449C-B973-439D-9243-8E38548B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93FF3-7449-42A4-B4D2-710F24FE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787D3-0286-453A-922B-969D9757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5526B-BD6C-4848-BCCE-1802EC38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7F73B-AB4D-492B-A4E5-17E789D4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6DC95-2905-4AD8-89B9-13283A6A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D5483-31D8-42C3-B522-5E6FD75C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338AC-4B6C-493C-8AA0-2FAA8034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ED3-774B-447B-A9C3-3A637F8A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A706B-5540-413D-B0D1-0D78B4A1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28300-2F9A-4CBE-A6E2-7697E013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98918-85D8-4881-A151-A45CF44B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E3525-A057-403F-AECF-51BC3AAB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70A5D-A5E9-4A87-8D37-09CE0304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2AB-4DAC-4A7C-87D0-9C16D469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8D7C-85CF-40AC-B5AD-81B261125980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9710-BB18-44DD-9C7B-1CD92D4AAC49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3C04-4F87-4B2D-82BE-0EBE837A15CA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DA2B-BB7F-472B-BF7D-059EA3FE9507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E171-3B2E-45AA-BBF1-65A0CABB72F2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063A-00A3-4836-8B18-F11A2207E0C9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EEC0-888A-419E-9962-8CA22C11FBFE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1714320"/>
            <a:ext cx="776448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2010</a:t>
            </a: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年度　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</a:t>
            </a:r>
            <a:br>
              <a:rPr sz="4300"/>
            </a:b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修正履歴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071720" y="1447920"/>
          <a:ext cx="7862760" cy="1112760"/>
        </p:xfrm>
        <a:graphic>
          <a:graphicData uri="http://schemas.openxmlformats.org/drawingml/2006/table">
            <a:tbl>
              <a:tblPr/>
              <a:tblGrid>
                <a:gridCol w="1123920"/>
                <a:gridCol w="1122120"/>
                <a:gridCol w="4562640"/>
                <a:gridCol w="1054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日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修正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備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初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修正（ページ追加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につい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85920" y="1447560"/>
            <a:ext cx="7648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目的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正会員である企業様にと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入会のメリット」が分かりづらい事が課題となってい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運営を続けていくためには専任の従業員の存続も必要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この事業案は、上記２つの課題を解決するための１つの方法として提案するものであ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施行方法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正会員・法人会員の会費をお支払いの企業様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企業様のアピールしたい項目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P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へ無料で記載する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毎に見直し。修正自由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ki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で行う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にブログ（技術ブログ、営業ブログ等）を掲載する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ブログの横に広告枠を設けてそこに広告を張り収益を上げたい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度は試験運用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将来にむけて、企業間の仕事のコミュニケーションツールを提供したい（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の当初の思惑である、仲介業）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課題と対策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課題と対策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調べる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oogle Analy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を使って調べ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増やす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O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対策を行いアクセス数を増や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魅力ある内容を載せる（技術、動向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九州にいないとわからないような情報を載せたい→どんな情報がある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2/26-3/28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までの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アクセス数の推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Object 2"/>
          <p:cNvGraphicFramePr/>
          <p:nvPr/>
        </p:nvGraphicFramePr>
        <p:xfrm>
          <a:off x="2428920" y="1428840"/>
          <a:ext cx="5357880" cy="758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1428840"/>
                    <a:ext cx="5357880" cy="758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現在の順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(google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日調べ　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」で検索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8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ソフトウェア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3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位以内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ページ目）を目指す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30T07:37:41Z</dcterms:modified>
  <cp:revision>224</cp:revision>
  <dc:subject/>
  <dc:title>ETロボコン2009 九州地区反省と来年度について</dc:title>
</cp:coreProperties>
</file>