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10.wmf" ContentType="image/x-wmf"/>
  <Override PartName="/ppt/media/image2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5.png" ContentType="image/png"/>
  <Override PartName="/ppt/media/image3.jpeg" ContentType="image/jpeg"/>
  <Override PartName="/ppt/media/image13.jpeg" ContentType="image/jpeg"/>
  <Override PartName="/ppt/media/image6.jpeg" ContentType="image/jpeg"/>
  <Override PartName="/ppt/media/image7.wmf" ContentType="image/x-wmf"/>
  <Override PartName="/ppt/media/image4.png" ContentType="image/png"/>
  <Override PartName="/ppt/media/image12.wmf" ContentType="image/x-wmf"/>
  <Override PartName="/ppt/media/image8.wmf" ContentType="image/x-wmf"/>
  <Override PartName="/ppt/media/image9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EE0C-340B-4A53-AB45-7C8B94EFF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B03E-9541-4CDE-9821-E526986F6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278A-865E-4545-BE1B-EDE120778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ACB7-8DA6-4836-B356-7143C9223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AA3D8-230E-45BD-8D10-050C64B0F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B0D95-5ED7-4EC6-BAC4-384B886D4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DF832-8A8C-4553-B464-39318A320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E0836-44E1-4549-BECB-D371377F2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D77CD-332F-4876-8F45-C3E4DFD1A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7F04D-A125-46AC-B07C-A71F6C71B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6A106-32D1-42FE-98F4-10AE41F37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7B00-C3A0-475B-B3A1-4739EE67E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E69CE-F25E-4F0D-933E-28B6897A6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DDC7E-B365-4D1F-B558-B1AE58779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14F4D-AC1C-4AF0-A3EF-16595AE66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C188B-4432-4532-8E16-DADB2E88D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4835D-8134-4679-A183-108304535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22142-B53A-4DED-9695-8B5CF1B68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1064B-1908-469E-A69B-7D215DE34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1994A-8228-4278-919A-DCDA78D4A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7197D-EC7F-43EF-8BDB-842211721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63A18-CFD1-471F-87EC-8947A78BA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68BC-71B0-469E-A393-CD50EEC79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EEDB9-B1FD-4F8F-A665-2CBED4009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EEB6F-D155-406A-8864-5D19BA9EC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75F64-341B-4F3E-A467-052DF227B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D897C-63B5-4D3D-9C8D-9D8B6407F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C9C32-53CB-49FB-ABDD-CFF7AC9C9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9ACD0-FA5C-4586-A000-A7E052E52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60AC3-638B-4AA1-A96E-3910D3C39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8631F-9964-49F8-A075-16299545C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ECFE78-7B77-4C89-96BC-4C1C5F0C1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589A7-719B-470B-A185-327B77A19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6A9A-84BC-4A07-955E-5D6A7469E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37727-57CA-4325-9095-C1F50B39F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3E5858-B82D-4A23-B78A-5EE47A11A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694D8-FFA4-45D0-9EFC-1D684C422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1D978-E1FE-49E6-862F-EA2B22B9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4E9E8-48CF-4BFF-AC80-4CFDB335A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6462F-09FF-4BB7-B1CD-5A3450AE4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4B86F-85B9-44D0-AE8B-B949A1FBD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75C7A-838A-4F32-AE42-C850BA4DA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2398D-E39A-4BB5-AB1E-C55018FA0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3B3DE0-7DEE-4164-8A05-9A1EAFAC9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785B-AE6B-402D-B6F0-12A25CE74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51C557-B5FC-434C-8C06-225D59406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08D8A4-CECD-4B30-95AF-091195301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40A6F9-A92F-4E8F-86C1-78491B93E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3B8276-5D29-4576-8A6C-73EB649BC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A782D3-E293-418A-B200-EA9325ADE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D2423D-3E29-4BBD-B5CD-7B55B6B0A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5515AF-FA53-4883-9847-D4594D6D4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782AE5-DD51-43E3-9BBC-CE9753C09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40366C-4578-46BC-9C13-A43F3DDFE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CC29A9-B36B-4497-8702-7D9C16D85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3858-8AF5-4077-99F5-A0151C7E9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11F839-C503-4E7F-9D09-7AAF2B5C6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2D4F8B-C2E6-449F-A1AE-E2FA28E14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F8AF3B-D0CE-46E5-A00F-A9C58FC91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FBFA4E-3B39-4311-958B-1C45D6E53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577C8C-E3B9-4494-BCF9-3A55E7D20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CE63CB-0D96-470A-AEC9-D89D1D0AF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D17E18-6ED4-463B-91BB-A0F14C494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9CE35F-9ED8-450B-8FE5-56A9AC7AE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5A453E-47B4-4541-BE14-E53EF6486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3E62A4-2B59-41C1-8500-E386F5CA1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39BD-14AE-483C-B759-804025F78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693EE4-14A7-45C4-ACF1-C303D9016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7D1A52-7417-4A78-93AD-5469F6326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0C2263-28EB-42C7-AC36-D77881198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2BE84F-DE1A-437B-A3B5-45BC45A2E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48B857-9126-4715-A8DF-DB2D13B8B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F96BB4-E6FD-4795-A5DA-E2FCFF705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BFE4B6-FE54-44B5-BC63-E4A94A79C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699F14-C204-44D4-8482-884E5A6EC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5C2F13-DC61-406D-A788-2AF24E573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784CE2-4204-4A12-93F6-27F663451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EF22-D4C9-4667-8914-EE46DFF52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52B6BB-F100-485E-8FF2-EB4F8532D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892037-5AF9-427D-A2BA-C22EB6A73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1BD2F5-D91B-466A-8549-D5A76C9EC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3A53B1-CA6B-4B88-AC1E-7625DD04B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DB4AEC-0911-42B4-820F-5D196812D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EF0B-00A5-4DDA-B6FD-CFD94781D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パイ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円/楕円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ドーナツ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ドーナツ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正方形/長方形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36777-F677-4E68-A2A4-5D71B55DCC8D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正方形/長方形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Picture 2" descr="C:\DATA\マイピクチャ\logo2.jpg"/>
          <p:cNvPicPr/>
          <p:nvPr/>
        </p:nvPicPr>
        <p:blipFill>
          <a:blip r:embed="rId4"/>
          <a:stretch/>
        </p:blipFill>
        <p:spPr>
          <a:xfrm>
            <a:off x="7738920" y="0"/>
            <a:ext cx="1405080" cy="428760"/>
          </a:xfrm>
          <a:prstGeom prst="rect">
            <a:avLst/>
          </a:prstGeom>
          <a:ln w="0">
            <a:noFill/>
          </a:ln>
        </p:spPr>
      </p:pic>
      <p:sp>
        <p:nvSpPr>
          <p:cNvPr id="13" name="正方形/長方形 13"/>
          <p:cNvSpPr/>
          <p:nvPr/>
        </p:nvSpPr>
        <p:spPr>
          <a:xfrm>
            <a:off x="857160" y="6488280"/>
            <a:ext cx="742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HGｺﾞｼｯｸE"/>
              </a:rPr>
              <a:t>Kyushu Embedded Software Technology Consortium(QU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パイ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円/楕円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ドーナツ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3" name="ドーナツ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正方形/長方形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正方形/長方形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C:\DATA\マイピクチャ\logo2.jpg"/>
          <p:cNvPicPr/>
          <p:nvPr/>
        </p:nvPicPr>
        <p:blipFill>
          <a:blip r:embed="rId4"/>
          <a:stretch/>
        </p:blipFill>
        <p:spPr>
          <a:xfrm>
            <a:off x="7738920" y="0"/>
            <a:ext cx="140508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正方形/長方形 13"/>
          <p:cNvSpPr/>
          <p:nvPr/>
        </p:nvSpPr>
        <p:spPr>
          <a:xfrm>
            <a:off x="857160" y="6488280"/>
            <a:ext cx="742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HGｺﾞｼｯｸE"/>
              </a:rPr>
              <a:t>Kyushu Embedded Software Technology Consortium(QU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円/楕円 15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60" name="円/楕円 15" descr=""/>
            <p:cNvPicPr/>
            <p:nvPr/>
          </p:nvPicPr>
          <p:blipFill>
            <a:blip r:embed="rId5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円/楕円 16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75834-BEEF-4EC3-98AD-9197AB6FCD32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正方形/長方形 15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正方形/長方形 16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円/楕円 17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7" name="円/楕円 17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円/楕円 1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E46D1-A834-486D-969C-5A527CA597C0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1AD6B-9729-4E51-9856-E002ABAE0525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正方形/長方形 15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正方形/長方形 16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D5489-C3C4-4CC5-BEA4-2DEA3C75C2F4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A0168-6607-435F-B5F1-9A651EEB9B0F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正方形/長方形 15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7" name="正方形/長方形 15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フローチャート: 処理 16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フローチャート: 処理 17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6BE78-8ACC-4249-89A4-CBBF6C5E8102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2.wmf"/><Relationship Id="rId14" Type="http://schemas.openxmlformats.org/officeDocument/2006/relationships/image" Target="../media/image13.jpeg"/><Relationship Id="rId15" Type="http://schemas.openxmlformats.org/officeDocument/2006/relationships/image" Target="../media/image14.jpeg"/><Relationship Id="rId16" Type="http://schemas.openxmlformats.org/officeDocument/2006/relationships/image" Target="../media/image15.jpeg"/><Relationship Id="rId17" Type="http://schemas.openxmlformats.org/officeDocument/2006/relationships/image" Target="../media/image16.jpeg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071720" y="2499840"/>
            <a:ext cx="776448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QUEST</a:t>
            </a:r>
            <a:r>
              <a:rPr b="0" lang="ja-JP" sz="3900" spc="-1" strike="noStrike">
                <a:solidFill>
                  <a:srgbClr val="572314"/>
                </a:solidFill>
                <a:latin typeface="Gill Sans MT"/>
              </a:rPr>
              <a:t>理事連絡会</a:t>
            </a:r>
            <a:br>
              <a:rPr sz="3900"/>
            </a:br>
            <a:r>
              <a:rPr b="0" lang="ja-JP" sz="3900" spc="-1" strike="noStrike">
                <a:solidFill>
                  <a:srgbClr val="572314"/>
                </a:solidFill>
                <a:latin typeface="Gill Sans MT"/>
              </a:rPr>
              <a:t>セミナー状況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1428840" y="4285800"/>
            <a:ext cx="740736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2010</a:t>
            </a:r>
            <a:r>
              <a:rPr b="0" lang="ja-JP" sz="2600" spc="-1" strike="noStrike">
                <a:solidFill>
                  <a:srgbClr val="320e04"/>
                </a:solidFill>
                <a:latin typeface="Gill Sans MT"/>
              </a:rPr>
              <a:t>年</a:t>
            </a: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3</a:t>
            </a:r>
            <a:r>
              <a:rPr b="0" lang="ja-JP" sz="2600" spc="-1" strike="noStrike">
                <a:solidFill>
                  <a:srgbClr val="320e04"/>
                </a:solidFill>
                <a:latin typeface="Gill Sans MT"/>
              </a:rPr>
              <a:t>月</a:t>
            </a: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30</a:t>
            </a:r>
            <a:r>
              <a:rPr b="0" lang="ja-JP" sz="2600" spc="-1" strike="noStrike">
                <a:solidFill>
                  <a:srgbClr val="320e04"/>
                </a:solidFill>
                <a:latin typeface="Gill Sans MT"/>
              </a:rPr>
              <a:t>日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QUEST</a:t>
            </a:r>
            <a:r>
              <a:rPr b="0" lang="ja-JP" sz="2600" spc="-1" strike="noStrike">
                <a:solidFill>
                  <a:srgbClr val="320e04"/>
                </a:solidFill>
                <a:latin typeface="Gill Sans MT"/>
              </a:rPr>
              <a:t>　山下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900" spc="-1" strike="noStrike">
                <a:solidFill>
                  <a:srgbClr val="572314"/>
                </a:solidFill>
                <a:latin typeface="Gill Sans MT"/>
              </a:rPr>
              <a:t>１．先進的組込み教育状況報告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499520" cy="49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ハイレベル先進新技術セミナ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定員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100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名　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17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日実施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RP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センタービル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857240" y="2928960"/>
          <a:ext cx="6143760" cy="3222720"/>
        </p:xfrm>
        <a:graphic>
          <a:graphicData uri="http://schemas.openxmlformats.org/drawingml/2006/table">
            <a:tbl>
              <a:tblPr/>
              <a:tblGrid>
                <a:gridCol w="4392720"/>
                <a:gridCol w="1751040"/>
              </a:tblGrid>
              <a:tr h="498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ＭＳ 明朝"/>
                          <a:ea typeface="HGｺﾞｼｯｸE"/>
                        </a:rPr>
                        <a:t>項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ＭＳ 明朝"/>
                          <a:ea typeface="HGｺﾞｼｯｸE"/>
                        </a:rPr>
                        <a:t>値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2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申込数（関係者除く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3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参加人数（関係者除く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0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アンケート回収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0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参加率（参加人数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/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申込数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5.2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アンケート回収率（アンケート回収数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/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参加人数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0.0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18" descr="resize0091"/>
          <p:cNvPicPr/>
          <p:nvPr/>
        </p:nvPicPr>
        <p:blipFill>
          <a:blip r:embed="rId1"/>
          <a:stretch/>
        </p:blipFill>
        <p:spPr>
          <a:xfrm>
            <a:off x="1571760" y="5072040"/>
            <a:ext cx="2143080" cy="147492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900" spc="-1" strike="noStrike">
                <a:solidFill>
                  <a:srgbClr val="572314"/>
                </a:solidFill>
                <a:latin typeface="Gill Sans MT"/>
              </a:rPr>
              <a:t>２．ハイレベルセミナー</a:t>
            </a:r>
            <a:br>
              <a:rPr sz="3900"/>
            </a:br>
            <a:r>
              <a:rPr b="0" lang="ja-JP" sz="3900" spc="-1" strike="noStrike">
                <a:solidFill>
                  <a:srgbClr val="572314"/>
                </a:solidFill>
                <a:latin typeface="Gill Sans MT"/>
              </a:rPr>
              <a:t>　　アンケート結果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Object 6"/>
          <p:cNvGraphicFramePr/>
          <p:nvPr/>
        </p:nvGraphicFramePr>
        <p:xfrm>
          <a:off x="3857760" y="1628640"/>
          <a:ext cx="239688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2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57760" y="1628640"/>
                    <a:ext cx="239688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4" name="Object 8"/>
          <p:cNvGraphicFramePr/>
          <p:nvPr/>
        </p:nvGraphicFramePr>
        <p:xfrm>
          <a:off x="6286680" y="1571760"/>
          <a:ext cx="2377800" cy="1800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35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286680" y="1571760"/>
                    <a:ext cx="2377800" cy="18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7" name="Object 10"/>
          <p:cNvGraphicFramePr/>
          <p:nvPr/>
        </p:nvGraphicFramePr>
        <p:xfrm>
          <a:off x="1428840" y="3257640"/>
          <a:ext cx="2274840" cy="1800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38" name="Object 1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428840" y="3257640"/>
                    <a:ext cx="2274840" cy="18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9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0" name="Object 12"/>
          <p:cNvGraphicFramePr/>
          <p:nvPr/>
        </p:nvGraphicFramePr>
        <p:xfrm>
          <a:off x="3857760" y="3271680"/>
          <a:ext cx="2255760" cy="1800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41" name="Object 1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857760" y="3271680"/>
                    <a:ext cx="22557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Object 14"/>
          <p:cNvGraphicFramePr/>
          <p:nvPr/>
        </p:nvGraphicFramePr>
        <p:xfrm>
          <a:off x="6357960" y="3271680"/>
          <a:ext cx="2255760" cy="17989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44" name="Object 14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357960" y="3271680"/>
                    <a:ext cx="2255760" cy="17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Object 17"/>
          <p:cNvGraphicFramePr/>
          <p:nvPr/>
        </p:nvGraphicFramePr>
        <p:xfrm>
          <a:off x="1428840" y="1566720"/>
          <a:ext cx="2369880" cy="17910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46" name="Object 1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428840" y="1566720"/>
                    <a:ext cx="2369880" cy="17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47" name="Picture 19" descr="resize0092"/>
          <p:cNvPicPr/>
          <p:nvPr/>
        </p:nvPicPr>
        <p:blipFill>
          <a:blip r:embed="rId14"/>
          <a:stretch/>
        </p:blipFill>
        <p:spPr>
          <a:xfrm>
            <a:off x="3929040" y="5072040"/>
            <a:ext cx="2000160" cy="149868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20" descr="resize0088"/>
          <p:cNvPicPr/>
          <p:nvPr/>
        </p:nvPicPr>
        <p:blipFill>
          <a:blip r:embed="rId15"/>
          <a:stretch/>
        </p:blipFill>
        <p:spPr>
          <a:xfrm>
            <a:off x="7286760" y="5072040"/>
            <a:ext cx="1000080" cy="146700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21" descr="resize0082"/>
          <p:cNvPicPr/>
          <p:nvPr/>
        </p:nvPicPr>
        <p:blipFill>
          <a:blip r:embed="rId16"/>
          <a:stretch/>
        </p:blipFill>
        <p:spPr>
          <a:xfrm>
            <a:off x="6000840" y="5072040"/>
            <a:ext cx="1214280" cy="7318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22" descr="resize0080"/>
          <p:cNvPicPr/>
          <p:nvPr/>
        </p:nvPicPr>
        <p:blipFill>
          <a:blip r:embed="rId17"/>
          <a:stretch/>
        </p:blipFill>
        <p:spPr>
          <a:xfrm>
            <a:off x="6000840" y="5786280"/>
            <a:ext cx="105228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5T00:29:00Z</dcterms:created>
  <dc:creator>yamashita</dc:creator>
  <dc:description/>
  <dc:language>en-US</dc:language>
  <cp:lastModifiedBy>yamashita</cp:lastModifiedBy>
  <dcterms:modified xsi:type="dcterms:W3CDTF">2010-03-25T03:02:12Z</dcterms:modified>
  <cp:revision>145</cp:revision>
  <dc:subject/>
  <dc:title>ETロボコン2009 九州地区反省と来年度について</dc:title>
</cp:coreProperties>
</file>