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E52-EA49-414B-AC25-21725EA8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83D-64DF-4992-A984-DE10BFEC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1F8-F7E1-4089-8FCC-47048B30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9A9-5166-439C-AEF2-47E522CB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9A68-E6F8-4ABB-B026-271E3B87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9A3D-10C1-4823-ACB7-BF891E88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A792-BBF8-4828-B4B0-47687DBF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E9AE-DF6B-4409-AF6C-B4DC9BD2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4AC3-D913-48D9-9981-7D9D04DF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ED4A-47B2-4936-8946-CF19E98F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F86F-1FD2-428A-9DF4-9695267E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FD7-911D-4929-A8FB-236AE776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AFE8-2BDA-4632-9F95-F21F9458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0A2C-6875-4F48-8AA8-65080D0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8CE8-F758-4BB6-9391-7299F034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B66A-0C8F-442A-BFDE-61F6A142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61F2-5F6F-42EF-8F58-477C53C5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4538C-D437-4C87-8BD6-A5968445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0DC58-8469-4FE9-ADA1-C7585E64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44B7-16B7-47B9-9AA7-C9248C72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837A-B85A-4389-BA25-F7D4C86B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B14A4-C89C-4BD0-A60D-350E4684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2BA-C49B-4484-BFF2-254A434D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589B-5541-4B86-95BC-A510992F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B2A59-8285-4F79-BF71-4039EC34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7AA95-997B-45F7-85B6-D057C7A4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BFA7-E41A-4EE4-882E-A590202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36FB-4FC1-4D2E-AA25-F2CAF986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BCF1-AC1A-466F-B917-71E73771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33830-58FF-401D-AE3A-6AC8F24B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617D7-874F-4C24-AF23-9D5B1985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48BAA-A7AA-4EBC-A479-CC6ED733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BD56-83EB-48C5-849C-58FDC140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A5C-1FC4-423C-B8F7-0B1DDC45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96604-04A2-48AE-A0F1-01E62C27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08AC2-65E5-441A-B381-163A5C2C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98A3-E588-43AF-8056-1251604C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C27A-4F25-462C-8024-4ED6338F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2AF0-C62C-49DA-B463-30F4C08F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72867-BC97-4A6B-A219-017C5B04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735E6-E4B6-4148-B850-2138EC7D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83C90-8FA2-47D2-99D8-E38D7684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53B0-DF9B-42E1-A52C-FEB4F7C2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ACE9-86CE-4692-9041-FE97C9C7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978-A691-4031-80EA-BCB090A4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F2425-AE55-4F8D-9445-B750B613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E3BD4-506F-4924-88D1-5AD7673A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2CA5B-7672-4413-B22F-60311862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9B5D5-0CA2-4487-B363-A398922A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837EB-73D0-4681-9AE5-4156FCE9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978AC-5056-4821-880E-02EAE6CE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486B-EC28-4D8F-9ADA-211EE77B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1FB6C-9B21-4F1E-A2D7-FE3EC199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AEA0A-3D56-42E7-AF68-466EE26B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199F5-356E-4BD1-89A1-3C25C312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AE4-AF73-4B37-B7B6-0D09AF2B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ABF83-EA69-4359-A8B4-ECAB014F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E5BA2-A3BD-4F44-A519-B520E039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1AC60-C3E5-4FBF-821D-68ED9AAB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30AA8-6A30-4033-A735-91A5ED13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68A26-FEB2-4F13-94AE-E90CCED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B5EAC-58B4-4F22-95BE-95527B1B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05F2B-0668-4C52-81AF-DEE1A2A2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0B24-BD34-4290-8082-D69E467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1F2E4-38BF-45E0-B6F2-E5CE626A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56BBA-9890-4A24-9A08-EEC9BF97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64D-9DE8-445C-B66D-039065A4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7A448-C3CC-4F6A-9E67-F847B361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13CE1-598D-4328-8422-BCFB77C6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06DA4-3711-4D62-8941-F2DD2A39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8B143-337B-45CE-8836-3416ABAE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C54CC-63F5-4282-949E-BFCB09D5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E3CB1-DFA2-4179-B277-4EE3A995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3A6A2-710E-45E3-9789-9783DBD0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DEE4E-237C-4D0F-ADD7-390389E3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FAD6C-41D5-4B6E-887E-0E5D6031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F5707-A601-4675-BD5D-CB32502C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4DA-973E-4364-9802-534B5F9C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E89E-65BA-4CF4-B524-07B8ABF4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D8A82-D72B-4710-AA83-7D51BD0E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4E8AD-18DF-4409-9596-6AB035FD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8599C-D332-47F7-8A2B-3FEDF5BC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EF6CC-5079-4036-BEEC-8A038CFC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CB6-DDBE-4A33-BC57-414E9847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90E8-3465-4277-AE1D-2F0B07F8C72A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F1C1-21E6-470F-AD11-EECC64D77799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60D4-166E-4AA9-8445-53CF08E3C66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97D2-8481-4DD0-8BBA-A9483301AD2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4D09-2FCB-468E-857C-9E1B11B7CD0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17C2-D8DA-4203-850F-AE24CFBB0E4B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C61A-61DE-4789-BAF0-F96630C5A627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1714320"/>
            <a:ext cx="77644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0</a:t>
            </a: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年度　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</a:t>
            </a:r>
            <a:br>
              <a:rPr sz="4300"/>
            </a:b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修正履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71720" y="1447920"/>
          <a:ext cx="7862760" cy="111276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4562640"/>
                <a:gridCol w="105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日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修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初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修正（ページ追加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につい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会員である企業様にと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入会のメリット」が分かりづらい事が課題となってい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運営を続けていくためには専任の従業員の存続も必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この事業案は、上記２つの課題を解決するための１つの方法として提案するものであ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施行方法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正会員・法人会員の会費をお支払いの企業様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企業様のアピールしたい項目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へ無料で記載する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毎に見直し。修正自由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ki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で行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にブログ（技術ブログ、営業ブログ等）を掲載す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ブログの横に広告枠を設けてそこに広告を張り収益を上げたい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度は試験運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将来にむけて、企業間の仕事のコミュニケーションツールを提供したい（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の当初の思惑である、仲介業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課題と対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課題と対策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調べる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gle Analy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を使って調べ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増やす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O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対策を行いアクセス数を増や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魅力ある内容を載せる（技術、動向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九州にいないとわからないような情報を載せたい→どんな情報がある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/26-3/28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までの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アクセス数の推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428920" y="1428840"/>
          <a:ext cx="5357880" cy="758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428840"/>
                    <a:ext cx="535788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現在の順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google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日調べ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」で検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8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ソフトウェア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位以内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ページ目）を目指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30T07:37:41Z</dcterms:modified>
  <cp:revision>224</cp:revision>
  <dc:subject/>
  <dc:title>ETロボコン2009 九州地区反省と来年度について</dc:title>
</cp:coreProperties>
</file>