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F98-CCF1-45AD-BA9C-069D95ED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7B8-F0DF-4EFC-AD00-05DB0F5A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BF7-7BDC-4383-99AF-570CF1E1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E37-5347-4AD2-A7AE-B6CD74B1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8370-8785-441C-A1C8-39571078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D9BC-AB18-4D1A-8BFC-3550C5F3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0B54-8ACD-4E60-A7EF-D1BA4A7F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C510-6E36-4C65-B33B-3A1324E5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7FD1-CA23-4172-91C5-A0397B3E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6E56-CB42-4F80-BAAB-0E5AA4FA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34ED-58A2-48D1-B201-6F08828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48D-9B5C-4A95-9866-14D3532A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4A41-FCBE-49C8-81C8-C4E0E570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9056-9AC3-470C-8572-652BB6F1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DC18-5357-4C3C-BA1E-6C405C26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8825-4D65-4043-97CF-3D955C86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51D0-21D6-4F72-9BC8-903D83C0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2A64F-BBEB-41A0-975E-2601809E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89D34-44CC-4F7B-BD1D-653512EE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763D-B303-4FD9-8DA3-D653F54D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557C-1351-4A5D-BE6F-772B4786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F682-7925-4E23-9629-02364646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341-CB35-4E0D-BA1F-7D98B2F2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1DF1-A43B-4798-BAC8-17B57E99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6C50-6B1C-4E16-A956-C95346D9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B751-7652-49FA-B2FC-CBC158FB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BA8B-F16D-40D7-9031-E45F4F8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BEFE4-7C66-45BB-B915-2BA953D6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17A9-6725-4A18-B4BA-4E7F378E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A43F-0F15-4DCE-8A14-8A76AE99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71E90-C3B6-4088-BA8C-30325DAB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7350B-6A16-42B2-812B-1779F5A7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C137-3333-4C3D-8904-F1ABDB93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0B2-28C6-4C75-AF45-EEF16405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50EA-8D10-4BA7-B1FF-32816010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769AC-F254-434C-824E-41EBFEA5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CDA7-98B6-401B-8B26-127BB9D7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F8805-DA24-49A7-A4E2-5788F6B6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6769E-E93C-40A3-BC13-BC06AA50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A0439-E501-4713-9432-399F5EB3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AB6D3-8F70-42A6-8D6E-BA93652B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9081A-93C0-4A88-84E9-B662D937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45242-40FB-45D3-B0F5-A3D0E9CE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804AE-622D-4A6D-9616-EBC0E082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9D9-6B8F-4259-B835-F0DE7312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E19D8-6801-43C1-B873-38EBA846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2EFDC-893C-4059-ACA0-60389E81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EBB4-B681-4124-B44E-1DE5D5BD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F1925-5168-4AC6-B7C3-8E121316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5789A-8430-415F-BAB1-6836F514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773E9-85A3-4F02-B713-CE6B6A82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BC8A8-9FCB-4B8C-9476-F13EE777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C1AB1-8FDF-4173-8C7B-4420054A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B6FDE-356B-4D66-8F74-7AD42FD0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89AFD-94A8-4FCE-B60F-8E2BEB40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75B-0327-4709-8817-9B04DBFE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18966-7885-4C37-9434-2138EDC6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F6555-3D25-4EF5-9554-9310EBC7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A90FC-A4D8-416C-9AAE-877CC424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20724-578F-4D08-8568-D93BF016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FDD5B-61FC-42AF-B18D-E1978DA1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B6B38-764E-4B89-B30F-15D897C6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47A59-93B5-4581-978C-6092D3AA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3E0B9-3BCB-44B2-98B5-7E9BC991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7559D-B547-4F43-9FF5-93AC8DF5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B89F8-C42B-43D2-AA7A-FD503998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5EB-7EB1-487A-97F9-BF51E326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77438-7194-464D-B748-9A86CDCE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4BA0F-6A90-4F9D-82E5-23BCD3BA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F4A65-E123-40A3-ADCE-812FD0E4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860AA-F3A0-4931-B3D7-9D5DB6E9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4EB90-80B2-42C1-8495-BBDF2B2D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A17EF-516F-416F-BCB3-EEF04DB0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57716-2BA3-437D-9956-C3F08B92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8E6ED-059F-42A2-9F24-A9127E71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8D8E9-F693-4793-85FB-206FF4CE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A487F-A77D-4992-AB2E-18D9DAE9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4DC-7220-4E8D-B789-BB00AC4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06BCF-378C-49F5-B23B-50445EFE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A5E95-B5BD-45B9-8812-3B5C3311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6CC33-55A9-4153-9A70-606888DB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7AE78-8904-428C-B12C-CEB11C73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DD9A8-7D7D-4B1B-A7D6-4D5F4BBF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CC4-390C-4CAE-8235-F61CED1C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3C4A-1D8F-4BD7-A411-66AE38CAA60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9D21-F9D0-498B-A26E-6AB7319CDF7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5CBF-781F-4517-82D3-2108150B70BD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F8DD-EC2F-4233-AB8E-3D590A0CD9E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16B8-BCC9-48F7-9BB9-0C90DF01B04E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6F35-87FC-49AF-9C67-DB39FD60EB9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F8FA-6F05-4403-A7BB-72B3F7783274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1714320"/>
            <a:ext cx="77644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0</a:t>
            </a: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年度　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</a:t>
            </a:r>
            <a:br>
              <a:rPr sz="4300"/>
            </a:b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修正履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71720" y="1447920"/>
          <a:ext cx="7862760" cy="111276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4562640"/>
                <a:gridCol w="105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日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修正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備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初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修正（ページ追加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につい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会員である企業様にと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入会のメリット」が分かりづらい事が課題となってい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運営を続けていくためには専任の従業員の存続も必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この事業案は、上記２つの課題を解決するための１つの方法として提案するものであ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施行方法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正会員・法人会員の会費をお支払いの企業様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企業様のアピールしたい項目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P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へ無料で記載する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毎に見直し。修正自由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ki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で行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にブログ（技術ブログ、営業ブログ等）を掲載す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ブログの横に広告枠を設けてそこに広告を張り収益を上げたい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度は試験運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将来にむけて、企業間の仕事のコミュニケーションツールを提供したい（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の当初の思惑である、仲介業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課題と対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課題と対策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調べる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gle Analy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を使って調べ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増やす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O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対策を行いアクセス数を増や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魅力ある内容を載せる（技術、動向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九州にいないとわからないような情報を載せたい→どんな情報がある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/26-3/28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までの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アクセス数の推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428920" y="1428840"/>
          <a:ext cx="5357880" cy="758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1428840"/>
                    <a:ext cx="535788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現在の順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(google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日調べ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」で検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8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ソフトウェア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位以内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ページ目）を目指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30T07:37:41Z</dcterms:modified>
  <cp:revision>224</cp:revision>
  <dc:subject/>
  <dc:title>ETロボコン2009 九州地区反省と来年度について</dc:title>
</cp:coreProperties>
</file>