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8CC6-1389-4B70-9F6A-4A6D69C3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DE2F-25C9-443C-9C08-5C3A1643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7451-33BE-44C0-8913-7AA928D5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8590-AFFA-44E2-8B14-0AE77B9D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D672-E703-49F9-9E1D-6D83D6114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A75C-EDA2-4608-B6AF-D13D3429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0069-4885-415F-8EE4-9790A529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0207-D3AB-45B5-9642-194F945D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87F8-CED5-4925-8353-C8FEB963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E1F9-C74E-485C-943F-AD29CD4D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8EE8-3A48-409C-9300-FAD449D9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FE57-F9A7-4095-9E50-DA02999D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0396-C2B1-4BDD-AA4F-812DBE2A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A478-3A9B-4192-93BD-FDD67B9A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4438-BBFD-4340-AE6D-FD0F8D19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38BF-794E-46AB-B8C1-AAB6333C4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9E81-EC8A-4901-AB20-C02D13CA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E8AAB-CCE7-4607-9C50-55D27676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56EA8-8918-4610-899E-D5CD5BEA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32F76-CB64-466C-B2DC-459FEEE0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319BC-9FD8-409D-8A66-6DE487C8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004DB-637C-4F3C-933D-6E7DB657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5A42-D36F-4980-ABAC-F6850BB5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3E9EE-E756-416B-9912-BB651DF0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4F042-9D4B-487C-A880-243A24DC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F8325-8E26-42D3-A31F-0ADD8681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42FFC-BD36-4CFA-B99E-93D1ACE1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E2844-CC1D-4C04-AB43-0009EB3A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88664-E114-4D1C-8591-8B7A6E3B1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C1A54-AB2A-45CE-A976-DEAA987A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9A16A-FCC0-44B1-8DBE-12869EF4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EBFB5-49C7-4788-B644-C4A7077A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6C80F-F550-404A-9FD5-04A84AA1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3F1D-DBCC-4CAE-A820-76AEDB53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61282-FB4B-423F-BFBE-37F874C4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D1738-0962-4BB1-8437-6038FA58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9E1D5-E225-459D-9654-313D04B3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E984D-D361-4196-81FA-07C9959E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1DEA1-906D-4F40-8CF2-06920B83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64F80-3358-429D-AFA0-6C5CFE63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8A828-8827-49E2-AAA8-E5827784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3BD21-3487-47A9-8769-65E55FFCA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05079-D4CB-4646-8C6E-9960D5FB9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AE4AA-B1A9-48BD-B0C4-73EFB1DE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FD77-8408-4EA0-A73E-ADDEC10D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E680B-AC04-4D30-A456-ED2F3E5A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25064-BA22-48F2-BD24-9970EB42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C736C-5315-4143-8EAE-55C82EE6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07FC7-91DD-43F0-9C19-4110CC22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B1EB0-3876-417E-880B-0CDCAC1A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BDC69-1E74-4CB8-ABA1-89E766DA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A3C7C-784F-4143-B3E1-8ED7F2D1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419BE-378B-44B1-BC65-64FDFC23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25D3E-D848-4DD4-9B6B-D33269DB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9D958-32BA-432B-AEC0-532969CA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1C9A-8E1B-460E-81A0-8FBE95DC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DE95C-B0BB-478E-9754-1E47022E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69B4C-4BD9-4821-B030-FCC33DAE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CA5AC-1FB3-4C06-BB7B-50EA003A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42E05-9F07-42BE-BA19-DAC3359F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81F4C-CAEB-4448-BFBC-64A4E264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EFFA3-4546-464B-B56B-DF4AD2F6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F0335-B67F-4E47-B210-3E6911E4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0C507-52EA-42C0-9DD9-ED293415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0B5B1-1F72-4B88-B303-A4A29102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EF705-6FCC-49F1-A7D1-9E8C57C9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5FA0-BE0C-4961-89FF-D25A6B63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5B0CC-F9AE-469A-BE0D-FC2B23A1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221B6-C312-4FF7-8315-2831F28E0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A0372-C7ED-4213-910F-7090E3DCF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5E26C-7B7B-4C91-878D-61084F37B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5946F-666D-4A08-AA4F-EB511E39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55D7A-0CF1-4EBE-9C73-ED8A94EF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77375-DA7B-448E-8A2D-B8D8D56F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261B2-521F-4753-8229-7E57984D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DBB7C-70BD-421A-90DC-E54DC389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13A10-15E4-4188-A1DF-5CB72CEB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3AB2-D131-4222-8A73-1C1DC508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FA5B8-ABB9-45EA-A561-D1F1BFFB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0A0BE-26D1-4BCE-B830-0752D7B0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58B27-D1E8-4067-912E-7A346D22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BEB0A-5C8C-4FC0-A7FF-9F9DB6969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7C8F4-D68E-4459-BA17-3F0985B82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EE54-F958-444A-897A-469C6D13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40CF-FA06-4738-8888-5CB6A0995B55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13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円/楕円 15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60" name="円/楕円 15" descr=""/>
            <p:cNvPicPr/>
            <p:nvPr/>
          </p:nvPicPr>
          <p:blipFill>
            <a:blip r:embed="rId5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円/楕円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8933-9F81-46B9-BBE4-4821E2B81210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正方形/長方形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正方形/長方形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円/楕円 1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7" name="円/楕円 1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円/楕円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1378-3DEE-491F-8E25-B1F1C4BC4D59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E4AA-C5B8-4765-B75D-22FB924ACB97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正方形/長方形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正方形/長方形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2F58-348C-487D-9421-7386C95B52BB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3C85-9D63-45E3-8139-5A14FDD87E18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正方形/長方形 15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7" name="正方形/長方形 15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フローチャート: 処理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フローチャート: 処理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A188-DB06-47DE-82D7-D6411ECE8E66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71720" y="1714320"/>
            <a:ext cx="776448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2010</a:t>
            </a: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年度　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EST</a:t>
            </a:r>
            <a:br>
              <a:rPr sz="4300"/>
            </a:b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広告事業案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428840" y="4285800"/>
            <a:ext cx="740736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201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年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月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日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QUEST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　山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修正履歴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071720" y="1447920"/>
          <a:ext cx="7862760" cy="1112760"/>
        </p:xfrm>
        <a:graphic>
          <a:graphicData uri="http://schemas.openxmlformats.org/drawingml/2006/table">
            <a:tbl>
              <a:tblPr/>
              <a:tblGrid>
                <a:gridCol w="1123920"/>
                <a:gridCol w="1122120"/>
                <a:gridCol w="4562640"/>
                <a:gridCol w="1054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日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修正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備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2010/3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山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・初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2010/3/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山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・修正（ページ追加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広告事業案につい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285920" y="1447560"/>
            <a:ext cx="7648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目的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現状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正会員である企業様にとって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入会のメリット」が分かりづらい事が課題となっている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また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の運営を続けていくためには専任の従業員の存続も必要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この事業案は、上記２つの課題を解決するための１つの方法として提案するものである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施行方法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年度正会員・法人会員の会費をお支払いの企業様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→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企業様のアピールしたい項目を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の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P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へ無料で記載する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年毎に見直し。修正自由。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ki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で行う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年度にブログ（技術ブログ、営業ブログ等）を掲載する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→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ブログの横に広告枠を設けてそこに広告を張り収益を上げたい→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年度は試験運用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将来にむけて、企業間の仕事のコミュニケーションツールを提供したい（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の当初の思惑である、仲介業）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課題と対策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課題と対策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現状のアクセス数を調べる必要があ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oogle Analytic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を使って調べ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現状のアクセス数を増やす必要があ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O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対策を行いアクセス数を増やす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魅力ある内容を載せる（技術、動向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九州にいないとわからないような情報を載せたい→どんな情報がある？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2/26-3/28</a:t>
            </a: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までの</a:t>
            </a:r>
            <a:br>
              <a:rPr sz="3900"/>
            </a:b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アクセス数の推移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Object 2"/>
          <p:cNvGraphicFramePr/>
          <p:nvPr/>
        </p:nvGraphicFramePr>
        <p:xfrm>
          <a:off x="2428920" y="1428840"/>
          <a:ext cx="5357880" cy="758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28920" y="1428840"/>
                    <a:ext cx="5357880" cy="758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現在の順位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(google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0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日調べ　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組込み」で検索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8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ページ目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組込みソフトウェア」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1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ページ目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3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ページ目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位以内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ページ目）を目指す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0:29:00Z</dcterms:created>
  <dc:creator>yamashita</dc:creator>
  <dc:description/>
  <dc:language>en-US</dc:language>
  <cp:lastModifiedBy>yamashita</cp:lastModifiedBy>
  <dcterms:modified xsi:type="dcterms:W3CDTF">2010-03-30T07:37:41Z</dcterms:modified>
  <cp:revision>224</cp:revision>
  <dc:subject/>
  <dc:title>ETロボコン2009 九州地区反省と来年度について</dc:title>
</cp:coreProperties>
</file>