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3.jpeg" ContentType="image/jpeg"/>
  <Override PartName="/ppt/media/image13.jpeg" ContentType="image/jpeg"/>
  <Override PartName="/ppt/media/image6.jpeg" ContentType="image/jpe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196-F29F-466A-94D7-884526B7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EE4B-07D8-4F59-9A8E-42F16E19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3FA-E80E-43E4-AB3E-7589EF57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9A14-B1AB-4834-BF42-72290FDF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E21E-2734-40FD-BC49-3210A95A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D8F0-2723-4B78-8065-ACEAE3A0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4D14-1D8D-4530-A049-7BEC3601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8A3B-A498-4903-BA6D-55AC8600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2214-3B9D-42DE-B5D3-F076E3C8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B2DD-3BE5-4927-8585-7D03867B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AB73-0567-41F2-A206-C50206DB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9D00-C195-474B-858E-1B31B599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1F17-649C-4E3C-B255-BA17B004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546E-91B9-4DED-9B09-AB523E12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B119-5D92-4859-B256-59E7DDE4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4539-EE7F-4FD4-8D29-FF21F467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E8C6-A3DF-495E-B7F9-132A832C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623A0-A37A-4483-9DE6-4D72232D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95A96-3DDA-49B5-B21B-1A12FAF3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6D022-0FFC-4F10-A91D-67E0BC87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4ACBF-8C8A-4F81-9AE4-167688BC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FEDE1-5F77-4739-B3FA-1C87765F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8FE-FCAF-4E20-8B38-BF95D3F7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CBC10-4EFD-4EC2-A20E-D1D97970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1BB85-A0F2-4FEC-9FC4-DC1B5F21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C1698-5966-4059-8A2A-9F2A28F5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8A568-8436-4898-BA2A-41766679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96632-E33B-4D5A-8239-0A155CD7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25D52-E043-41CB-A1BC-66E9DF53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4C852-6EBA-491E-8E54-D4D3C76F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04459-7072-4803-9380-E5C0FFBC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005BE-C916-4F11-A1DA-F9A46BDC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FB19A-D0D7-454F-B37B-E7ADC759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304-E6FB-4FE7-81BB-B658D981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D7C02-353E-4798-8702-82F6421B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4032B-5A3C-43CF-933C-0F84A3E5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9C637-6AB7-456E-86C9-6DE07B25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E03D7-0AE6-4529-B158-62B36473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D3585-F001-46F5-B8D2-EFF1EB8D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BC9CB-22E6-4734-948E-C5A6D772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B08A9-19D9-4CAA-866B-3463F7A4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06367-40C4-4262-AFD5-4DC8E5F4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45FE1-B264-4E11-956C-8811B618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A2DE5-9A72-41A4-A7B1-72ABA833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539-8AC2-4EBF-897B-B2A80882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F8281-180F-441C-A2BB-F86AB955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8A6A6-4F75-433A-8878-756CCFD0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1BEF4-BA6F-40C8-AAC3-D572E30E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FF654-88A6-472E-B8B5-299FA090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DC713-A7F0-4EC8-A13D-D049E131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27A39-D2CE-4505-AF31-7822A4DD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43556-510D-4D68-9DC9-2F3FC049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AB9C8-77FB-404E-A3E2-9364EFBA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5C897-6C3C-4D62-B145-9AD58A81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E4719-88A6-4A81-B449-F4A390BC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460F-0DF0-477A-96EE-102AE80E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E8D80-E169-422A-B36A-7B17B44A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10653-B7D1-4D95-881F-B2793565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C3AFE-E9BB-4AA1-B785-B1EBDF4E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5E35C-4CBB-44D2-B36E-81A290E3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19546-1827-4AB6-B8DA-1C53A582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E3BD4-CE38-44FF-9E09-6ECEA3C0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F418E-34A8-4FDD-9089-82418311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A5C68-D187-40C5-87C4-6687E4D7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7689B-EFA2-464D-BB2C-2A7AE543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239AA-E114-44BF-B09E-22E425FF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025-D68D-477E-8163-87348935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07DAC-BC62-4F9E-8C7C-583BF618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D902E-FDF5-4F95-81B0-59E593E4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E27B6-9012-4949-B422-42039F8F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76CA4-0C7D-4ACA-BDA4-298E7F24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6E721-B5B7-400D-BAC8-36FFFFB3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47870-9B28-4090-8A07-7E6C6930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71846-B72E-4FFC-AAF7-947282B7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2AC5B-20AF-43CC-8724-0E9B50CF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B9133-BAB6-4304-9F73-CEC1652F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E3603-EAC8-45F1-A265-C7F806F4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D0A2-D685-4EEA-8FEE-611355B5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1B68F-81B7-4478-ACF6-D8186458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172D2-5EE8-4378-B95D-D884694F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E5176-F3E3-4474-8CDD-125FA5AD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DBD79-B08D-4B4A-BF0A-0E7BC673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81676-4130-4300-A482-A7CD4DEE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3729-5459-40F3-9ED5-44FC3437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584F-1334-43B8-8D4E-6F5EAE530F38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752D-D127-4355-829A-B113B1CF13BA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8FE3-7C45-456B-B624-F9143F68A095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4BCE-D834-46FD-B6AF-4BDFC9CE7798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9E8C-17D2-4BAF-8E6C-0F8AA8F82C91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A560-E993-4882-8AB2-82854D4E2063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D28E-E9D1-4872-95B6-67A0446DBD0E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2499840"/>
            <a:ext cx="776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QUEST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理事連絡会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セミナー状況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１．先進的組込み教育状況報告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ハイレベル先進新技術セミ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定員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名　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7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日実施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R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センタービル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857240" y="2928960"/>
          <a:ext cx="6143760" cy="3222720"/>
        </p:xfrm>
        <a:graphic>
          <a:graphicData uri="http://schemas.openxmlformats.org/drawingml/2006/table">
            <a:tbl>
              <a:tblPr/>
              <a:tblGrid>
                <a:gridCol w="4392720"/>
                <a:gridCol w="1751040"/>
              </a:tblGrid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項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3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率（参加人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2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率（アンケート回収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.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8" descr="resize0091"/>
          <p:cNvPicPr/>
          <p:nvPr/>
        </p:nvPicPr>
        <p:blipFill>
          <a:blip r:embed="rId1"/>
          <a:stretch/>
        </p:blipFill>
        <p:spPr>
          <a:xfrm>
            <a:off x="1571760" y="5072040"/>
            <a:ext cx="2143080" cy="14749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２．ハイレベルセミナー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　　アンケート結果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6"/>
          <p:cNvGraphicFramePr/>
          <p:nvPr/>
        </p:nvGraphicFramePr>
        <p:xfrm>
          <a:off x="3857760" y="1628640"/>
          <a:ext cx="239688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7760" y="1628640"/>
                    <a:ext cx="23968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8"/>
          <p:cNvGraphicFramePr/>
          <p:nvPr/>
        </p:nvGraphicFramePr>
        <p:xfrm>
          <a:off x="6286680" y="1571760"/>
          <a:ext cx="2377800" cy="18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86680" y="1571760"/>
                    <a:ext cx="23778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10"/>
          <p:cNvGraphicFramePr/>
          <p:nvPr/>
        </p:nvGraphicFramePr>
        <p:xfrm>
          <a:off x="1428840" y="3257640"/>
          <a:ext cx="2274840" cy="180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8840" y="3257640"/>
                    <a:ext cx="22748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12"/>
          <p:cNvGraphicFramePr/>
          <p:nvPr/>
        </p:nvGraphicFramePr>
        <p:xfrm>
          <a:off x="3857760" y="3271680"/>
          <a:ext cx="2255760" cy="180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1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57760" y="3271680"/>
                    <a:ext cx="22557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4"/>
          <p:cNvGraphicFramePr/>
          <p:nvPr/>
        </p:nvGraphicFramePr>
        <p:xfrm>
          <a:off x="6357960" y="3271680"/>
          <a:ext cx="2255760" cy="1798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4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57960" y="3271680"/>
                    <a:ext cx="225576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17"/>
          <p:cNvGraphicFramePr/>
          <p:nvPr/>
        </p:nvGraphicFramePr>
        <p:xfrm>
          <a:off x="1428840" y="1566720"/>
          <a:ext cx="2369880" cy="1791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6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28840" y="1566720"/>
                    <a:ext cx="23698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7" name="Picture 19" descr="resize0092"/>
          <p:cNvPicPr/>
          <p:nvPr/>
        </p:nvPicPr>
        <p:blipFill>
          <a:blip r:embed="rId14"/>
          <a:stretch/>
        </p:blipFill>
        <p:spPr>
          <a:xfrm>
            <a:off x="3929040" y="5072040"/>
            <a:ext cx="2000160" cy="1498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0" descr="resize0088"/>
          <p:cNvPicPr/>
          <p:nvPr/>
        </p:nvPicPr>
        <p:blipFill>
          <a:blip r:embed="rId15"/>
          <a:stretch/>
        </p:blipFill>
        <p:spPr>
          <a:xfrm>
            <a:off x="7286760" y="5072040"/>
            <a:ext cx="1000080" cy="1467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1" descr="resize0082"/>
          <p:cNvPicPr/>
          <p:nvPr/>
        </p:nvPicPr>
        <p:blipFill>
          <a:blip r:embed="rId16"/>
          <a:stretch/>
        </p:blipFill>
        <p:spPr>
          <a:xfrm>
            <a:off x="6000840" y="5072040"/>
            <a:ext cx="1214280" cy="731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2" descr="resize0080"/>
          <p:cNvPicPr/>
          <p:nvPr/>
        </p:nvPicPr>
        <p:blipFill>
          <a:blip r:embed="rId17"/>
          <a:stretch/>
        </p:blipFill>
        <p:spPr>
          <a:xfrm>
            <a:off x="6000840" y="5786280"/>
            <a:ext cx="10522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25T03:02:12Z</dcterms:modified>
  <cp:revision>145</cp:revision>
  <dc:subject/>
  <dc:title>ETロボコン2009 九州地区反省と来年度について</dc:title>
</cp:coreProperties>
</file>