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C99-3FD4-423A-87CA-8B608DE2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20D-14D6-443B-9589-6C3AB4E8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8CB-2C57-44DB-A15F-51312823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74C-309D-478C-83F6-85512C6D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C0DA-B082-4E0E-B773-035B3BFD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EF84-9C85-4872-BA28-7167916C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6C65-7393-4818-B965-AF36D654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5D46-3483-4102-8054-C2565888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D252-426E-418E-B6A6-8830D42E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58CE-4431-4E51-BFF0-F00F2752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62D6-FFA1-406C-BA7B-686F7782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D7A-2ED8-4DCE-A8B1-6C82A1B6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0D34-D81C-4820-9582-C128B6BF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CE35-CC6E-4694-A75A-CCF61079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36BD-EEC4-48F0-B083-D10FE67B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1792-2725-45BC-9972-7D09F6EE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FDDF-037E-4FA9-A07E-98859BC0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C29B2-B738-46E6-9132-AED58735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8B36-B049-4DBB-91BD-6F806F7A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A616-5CA3-47DA-B608-66314D58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5011-264E-4A25-8BEE-22D29FDF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C2CD-17DB-42B5-B14B-E61D95AE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ABA-1FD5-4FC3-B8C8-F8B9D7F1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C151-9781-41B6-A15C-F079DCDB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B875-B32A-4487-B8E2-74DA372B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CB160-7821-4F8B-8CBB-4A5974D6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5ACE-32DB-4249-B938-57B31D3B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1C66-45C1-4A78-AB7E-D1004540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B03F-4EE8-4E09-A98E-726F9891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BB3E-2196-49DD-9779-FA34F028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4EDE0-CE61-4009-A911-4736AE6C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A9E12-BD3D-4BD7-B959-09A5C5A7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A74C-B3C0-4109-941F-DFAD5401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425-866D-4ED3-9174-76D4FC7F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B6E26-7ABC-4CC2-B89E-7FC98337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ABD48-0471-4945-88C1-9074494A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0816E-F5A9-4C01-8F90-08C1DEDA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786AB-E628-44B2-AFC2-F7504233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2E018-9F6B-4169-9AEE-B3B04762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3D381-DF3D-4F33-AB3B-5AD20DA9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1BF02-0E70-438A-9342-8A9DD01B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C32FC-D9AD-45C9-B353-16199395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68640-A7F3-4F73-88B4-1382FC91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B1FFD-6857-4BC3-9ED7-06740C18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E0A-03CF-45B5-B8F6-615B8469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405A6-5168-4C56-A82E-B51C87F8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69A03-90EA-455F-A796-C5D8342D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56148-62A9-419C-9339-EBF35EB7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F9AF5-0A74-47CA-BB8F-362F6756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2F8DD-DB81-43C8-A79A-1B8445FA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917AA-299F-4461-933E-8007490F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AADC8-0429-4123-BCE7-69EAA309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AB7A4-8E4C-4DC5-AB87-06E6A55B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949B5-8762-4E0D-95F3-8FB0E46D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55FFB-0352-42AE-8197-A287CA84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4AE-B5F8-4512-8DE1-8DD7C8DA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4F2B7-DB88-4DFA-99BE-8E432014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1A325-A986-4B31-AA09-E5A06980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42D61-75AF-4482-B57F-4FE5E1E2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6F864-2DCA-41B5-9B8C-81CB24F3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15C4D-E815-42A4-BFE8-0C7F6B2D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1F4DF-2AC0-48C1-A2CE-B5FDE831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59059-B209-404F-B0E2-89DE2C1C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B1EC7-2B21-4E86-B12B-F393E858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A9490-1342-49A2-B318-543E8954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70F74-4970-4E50-BEE9-A47B1F5B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5F6-D16C-47F5-B812-7A68EA2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4615E-0703-42B8-9B14-5AA3683E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6537C-1C9B-4D3A-ABF8-FE981CC7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5E853-1FB1-40B4-884C-05C12D2A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6308-1E8E-4587-8696-AFE385E1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0723D-E64E-44FB-AA0C-8D55B215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2047B-22BD-49F6-86DF-4D528E37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5CD8D-F305-4591-87DB-7D740ABA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B241E-EEF9-4BAB-9001-341BA509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C1E34-1C6F-4FA3-BD03-FF509C46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A667B-1436-43FE-95C3-9A79EC13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594-B4A2-4223-A995-98B9A60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B525E-714B-4775-A5F4-9C4210F3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A1821-16BE-4510-8D4A-8EEAFA8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9B06B-B7E9-494D-8F19-7D170FAB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4F50E-1503-411C-BD2A-CDB8AB13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AA0BB-29C1-4357-AD1F-AB341515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8C7-74B3-4CC7-ADAE-3A37A1DF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E309-A711-4772-857D-5EA5A5A0205B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461E-411D-4CFF-B854-7A092400599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E661-5646-4610-9D81-2D8BD7EDF56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5D9F-26FE-4D33-948B-EC84D53D1E8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0BF0-7448-468B-83C8-6CDFC0F6D0AA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D110-DFF3-4597-8FB2-313C2369E8B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F2D2-2DAD-4326-8CF3-DDAF2997D47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499840"/>
            <a:ext cx="776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理事連絡会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セミナー状況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１．先進的組込み教育状況報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ハイレベル先進新技術セミ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定員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名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7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日実施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センタービ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57240" y="2928960"/>
          <a:ext cx="6143760" cy="3222720"/>
        </p:xfrm>
        <a:graphic>
          <a:graphicData uri="http://schemas.openxmlformats.org/drawingml/2006/table">
            <a:tbl>
              <a:tblPr/>
              <a:tblGrid>
                <a:gridCol w="4392720"/>
                <a:gridCol w="175104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率（参加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率（アンケート回収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resize0091"/>
          <p:cNvPicPr/>
          <p:nvPr/>
        </p:nvPicPr>
        <p:blipFill>
          <a:blip r:embed="rId1"/>
          <a:stretch/>
        </p:blipFill>
        <p:spPr>
          <a:xfrm>
            <a:off x="1571760" y="5072040"/>
            <a:ext cx="2143080" cy="1474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２．ハイレベルセミナー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　　アンケート結果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6"/>
          <p:cNvGraphicFramePr/>
          <p:nvPr/>
        </p:nvGraphicFramePr>
        <p:xfrm>
          <a:off x="3857760" y="1628640"/>
          <a:ext cx="239688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7760" y="1628640"/>
                    <a:ext cx="2396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6286680" y="1571760"/>
          <a:ext cx="237780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6680" y="1571760"/>
                    <a:ext cx="2377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0"/>
          <p:cNvGraphicFramePr/>
          <p:nvPr/>
        </p:nvGraphicFramePr>
        <p:xfrm>
          <a:off x="1428840" y="3257640"/>
          <a:ext cx="227484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8840" y="3257640"/>
                    <a:ext cx="22748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2"/>
          <p:cNvGraphicFramePr/>
          <p:nvPr/>
        </p:nvGraphicFramePr>
        <p:xfrm>
          <a:off x="3857760" y="3271680"/>
          <a:ext cx="2255760" cy="18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7760" y="3271680"/>
                    <a:ext cx="2255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4"/>
          <p:cNvGraphicFramePr/>
          <p:nvPr/>
        </p:nvGraphicFramePr>
        <p:xfrm>
          <a:off x="6357960" y="3271680"/>
          <a:ext cx="2255760" cy="179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7960" y="3271680"/>
                    <a:ext cx="22557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7"/>
          <p:cNvGraphicFramePr/>
          <p:nvPr/>
        </p:nvGraphicFramePr>
        <p:xfrm>
          <a:off x="1428840" y="1566720"/>
          <a:ext cx="2369880" cy="179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1566720"/>
                    <a:ext cx="23698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19" descr="resize0092"/>
          <p:cNvPicPr/>
          <p:nvPr/>
        </p:nvPicPr>
        <p:blipFill>
          <a:blip r:embed="rId14"/>
          <a:stretch/>
        </p:blipFill>
        <p:spPr>
          <a:xfrm>
            <a:off x="3929040" y="5072040"/>
            <a:ext cx="2000160" cy="149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resize0088"/>
          <p:cNvPicPr/>
          <p:nvPr/>
        </p:nvPicPr>
        <p:blipFill>
          <a:blip r:embed="rId15"/>
          <a:stretch/>
        </p:blipFill>
        <p:spPr>
          <a:xfrm>
            <a:off x="7286760" y="5072040"/>
            <a:ext cx="100008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resize0082"/>
          <p:cNvPicPr/>
          <p:nvPr/>
        </p:nvPicPr>
        <p:blipFill>
          <a:blip r:embed="rId16"/>
          <a:stretch/>
        </p:blipFill>
        <p:spPr>
          <a:xfrm>
            <a:off x="6000840" y="5072040"/>
            <a:ext cx="1214280" cy="731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resize0080"/>
          <p:cNvPicPr/>
          <p:nvPr/>
        </p:nvPicPr>
        <p:blipFill>
          <a:blip r:embed="rId17"/>
          <a:stretch/>
        </p:blipFill>
        <p:spPr>
          <a:xfrm>
            <a:off x="6000840" y="5786280"/>
            <a:ext cx="1052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25T03:02:12Z</dcterms:modified>
  <cp:revision>145</cp:revision>
  <dc:subject/>
  <dc:title>ETロボコン2009 九州地区反省と来年度について</dc:title>
</cp:coreProperties>
</file>