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5"/>
          </p:nvPr>
        </p:nvSpPr>
        <p:spPr>
          <a:xfrm>
            <a:off x="401292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90720" y="764640"/>
            <a:ext cx="5106960" cy="383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6"/>
          </p:nvPr>
        </p:nvSpPr>
        <p:spPr>
          <a:xfrm>
            <a:off x="-36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7"/>
          </p:nvPr>
        </p:nvSpPr>
        <p:spPr>
          <a:xfrm>
            <a:off x="401292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049200-641E-434C-996B-2E6D3E129451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556FFA-2934-4290-8234-39B1DA701C0F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17B8A5-6F9F-4ABB-9AB5-22596D6BE8D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F8D2F3-762E-4FB7-9AA8-C096D9E2B062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0DEB70-83C9-4C1C-8FA2-55505D8FF5F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863070-AB63-45DC-8AB7-7257AD554851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5A5FC8-E2D5-4FF3-8595-8FDE37395E9F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6ED46C-E9EB-4C11-AC8E-B654DEF3B8B4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403388-E083-4A7C-A233-1B6A4BFB4794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A1103C-177B-40FD-A768-0EE34DF5348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075BB1-908B-4033-8586-46F4C1A532B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0C2806-3E29-4BD8-9A8E-702C1B44DA1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AB54AC-F87D-4020-8D81-C51E7DF4DAF7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BC00E1-4896-41FE-A1E3-EA41FB02FCAE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276E16-2A24-4252-9DBA-6CE711BA4726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2D6F10-5257-4DFE-AA77-41BBFC2EE09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51C6-5711-4CAE-AF4A-1958C1BDE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3A8B-2234-4C7E-B6CA-6B0BE6387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CB6E-E61D-4CA4-B9EC-664A9A056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D861-65CC-4D3A-9A1A-783947FAF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1190-44FF-4C42-8E55-DDEEB2B139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6851-7D13-4A0E-8C5A-95CE14017F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6E98-7C9A-49A8-887A-DCA18AD782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B90D-68FE-4B58-8564-A3E247D4CC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BC15-E178-4CCF-BC52-3E947F141C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9EF78-929A-4438-B476-774AEC91C1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7138-FB3D-4291-916A-0878A3E630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087B-53C4-41DF-96BC-929E3DE7A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0C29-A6E9-46E7-973F-8E41764442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2141-D804-42E3-8870-C41ECAF699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D6CA-42B9-4A04-823E-67CC00EC4F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B9BD9-110A-4937-928B-88A0647AA1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B763-290D-466F-AF78-3B9353D822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533-43AE-4CFC-808A-F42296D19E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451-D944-4017-9235-03DC2B85FB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0DF-67E8-46BE-A9B7-A9C202DF27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94B-B6E5-471E-8E04-BCCB2B27E1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EE1-2F2A-4FA5-A077-4DE4579BED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2EF3-5AD6-4A7F-8992-14A3D4C2C9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F69-0D94-41EF-B877-10802722A9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6AE-709A-4C6B-BBEC-44408AF02B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0B4-B6DB-490F-9130-957ABB2474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F7A-BD1E-471F-8D92-044BC29E06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B93-F2C7-48F5-9902-998849F933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608-C710-47A2-99A3-736F06CFE9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DC7-0E78-40D3-AF33-1016CFCCBA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65FBD-83DA-4DAE-9083-E158B64710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B90E3-A143-44A0-9FEE-548AF6B57C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0D421-D8BB-4285-8CFA-54A49DC9C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CC88-A775-4B90-ACD9-D721C04A1D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7D33E-D889-4BF0-B95A-AD54FFF797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47BB3-C18B-4BB7-9E48-14E42D3108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8821B-E864-4F8E-BA76-D6107BF692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DAD28-2ED4-4DC7-8CD7-6D7E62930E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E1AC8-018C-479B-A405-72A448C635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75928-F897-468E-B7B7-B41E25ED9F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1C835-861C-453F-B899-94C6CA4D3D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B8767-FA50-4E8C-830E-058512E61C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A41F8-A7ED-4736-AA71-598A3D034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B0C9-8B6B-4779-9562-2BF90E738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5DA5-77B5-41FC-90C3-9234C6FC7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9A93-9151-484D-9E8C-B908EDFBC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13E1-93B6-4FC8-8789-77DB2F74E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A272-3D28-4773-B01E-171CB2364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6B01-1B4A-4403-BBC9-989193AE780C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6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8C30-4D59-444A-8504-1AE609AD5AF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6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92CD-D8C3-4D5D-8C85-69972D01EC57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59738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1A01-DCE3-4E12-9A57-5E5E291DBDF5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03A3-9F30-4AD3-B4B8-9779278FCE4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4CC4-6E92-45FE-B42D-7978722BE108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2040" y="1112400"/>
            <a:ext cx="7380360" cy="26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年モデル審査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のポイント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077920" y="2728800"/>
            <a:ext cx="5078520" cy="3767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エクセレント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F683-1D9F-4321-A1EE-1F5D2683FDA9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2038320" y="996840"/>
            <a:ext cx="5181480" cy="386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204840" y="2192400"/>
            <a:ext cx="4224240" cy="315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4681440" y="2187720"/>
            <a:ext cx="4227480" cy="3147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394920" y="24433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281840" y="12985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7728840" y="2401920"/>
            <a:ext cx="82368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754440" y="5857920"/>
            <a:ext cx="169056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要素技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10840" y="2923920"/>
            <a:ext cx="729612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のポイント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7195-2357-46FF-9119-D6B9EBDE26A3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振り返り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アンケート結果から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審査結果の公開や、審査結果に関するより多くのフィードバックを希望する声が多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他チームとの相対的な位置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より多くのコメント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モデル審査の内容や基準に対する意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性能モデルが実験レポートに傾倒し過ぎ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技術教育に対する要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もっと初心者向けの内容を増やして欲し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工数の激増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参加チーム、モデル密度がそれぞれ増す中、モデル審査にかかる時間も年々増大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この方法で、より詳細なフィードバックや審査内容の追加は不可能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A323-1893-4D89-B00A-5D1F4CE97B3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全員参加の「いいね！」型モデル審査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の審査結果は参加チームへの一方的な通知表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する側、される側という意識が、みんなで大会を作っていくというロボコンのあり方を希薄化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いまのフィードバックだけでは、審査委員個々の思いやコメントが伝えきれな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「審査委員会」だけでなく、参加チームも審査に参加することで公平感・納得感を高めた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参加チームからの投票を受け付ける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最終評価は、審査委員会の評価と参加チームの投票結果により決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委員それぞれの評価や、一押しモデルも積極的に公開することで審査委員の「顔が見える」審査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まず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のみでの採用を検討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8AD5-4434-446F-8B9D-DB2FF2ABA95C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リング初心者にフォーカスした教育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これまでの教育資料は、初心者～経験者までを広くカバーすることを目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、実装、プロセスまで及び、すべての習得は困難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とくに、初心者に対するハードルが高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による「うれしさ」よりも「たいへんさ」が先行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年は、スキルアップの前に、まずは「モデリング」の価値を実感してもらうように方向転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ルを「作る」ことは大切だが、まず最初は「使う」のが先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すでに用意された「モデル」をつかって、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ロボコン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Hello world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（＝ライントレース）」を作ることにトライ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</a:rPr>
              <a:t>「モデルを使うとこんなに開発が楽なんだ！」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総合的な教材として、今までの教材の提供も併用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実際の進め方（ツールの活用、時間配分等）は今後検討予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ED9A-25A3-4B9E-9962-CDCDAEE8EA5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もよろしくお願いします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CF5D-D639-42E1-B7D5-E7A716593A86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目次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ル審査について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今年のポイン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FAFB-58D5-4F89-96F1-5D8AFC43F116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モデル審査について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67E4-A81C-4ED2-B370-BF65F08D3ABA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モデル審査基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5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9658-BABF-4A00-9ED3-B9CF0645DB09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グループ化 16"/>
          <p:cNvGrpSpPr/>
          <p:nvPr/>
        </p:nvGrpSpPr>
        <p:grpSpPr>
          <a:xfrm>
            <a:off x="204840" y="1608120"/>
            <a:ext cx="4189320" cy="1623960"/>
            <a:chOff x="204840" y="1608120"/>
            <a:chExt cx="4189320" cy="1623960"/>
          </a:xfrm>
        </p:grpSpPr>
        <p:pic>
          <p:nvPicPr>
            <p:cNvPr id="187" name="コンテンツ プレースホルダ 17" descr=""/>
            <p:cNvPicPr/>
            <p:nvPr/>
          </p:nvPicPr>
          <p:blipFill>
            <a:blip r:embed="rId1"/>
            <a:stretch/>
          </p:blipFill>
          <p:spPr>
            <a:xfrm>
              <a:off x="347400" y="1608120"/>
              <a:ext cx="398088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角丸四角形 7"/>
            <p:cNvSpPr/>
            <p:nvPr/>
          </p:nvSpPr>
          <p:spPr>
            <a:xfrm>
              <a:off x="204840" y="1636920"/>
              <a:ext cx="4189320" cy="1544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グループ化 18"/>
          <p:cNvGrpSpPr/>
          <p:nvPr/>
        </p:nvGrpSpPr>
        <p:grpSpPr>
          <a:xfrm>
            <a:off x="193680" y="3429000"/>
            <a:ext cx="4159080" cy="1849320"/>
            <a:chOff x="193680" y="3429000"/>
            <a:chExt cx="4159080" cy="1849320"/>
          </a:xfrm>
        </p:grpSpPr>
        <p:pic>
          <p:nvPicPr>
            <p:cNvPr id="190" name="コンテンツ プレースホルダ 17" descr=""/>
            <p:cNvPicPr/>
            <p:nvPr/>
          </p:nvPicPr>
          <p:blipFill>
            <a:blip r:embed="rId2"/>
            <a:stretch/>
          </p:blipFill>
          <p:spPr>
            <a:xfrm>
              <a:off x="383760" y="3431880"/>
              <a:ext cx="391968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角丸四角形 8"/>
            <p:cNvSpPr/>
            <p:nvPr/>
          </p:nvSpPr>
          <p:spPr>
            <a:xfrm>
              <a:off x="193680" y="3429000"/>
              <a:ext cx="4159080" cy="181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グループ化 17"/>
          <p:cNvGrpSpPr/>
          <p:nvPr/>
        </p:nvGrpSpPr>
        <p:grpSpPr>
          <a:xfrm>
            <a:off x="4535640" y="1596960"/>
            <a:ext cx="4376520" cy="4818240"/>
            <a:chOff x="4535640" y="1596960"/>
            <a:chExt cx="4376520" cy="4818240"/>
          </a:xfrm>
        </p:grpSpPr>
        <p:pic>
          <p:nvPicPr>
            <p:cNvPr id="193" name="コンテンツ プレースホルダ 17" descr=""/>
            <p:cNvPicPr/>
            <p:nvPr/>
          </p:nvPicPr>
          <p:blipFill>
            <a:blip r:embed="rId3"/>
            <a:stretch/>
          </p:blipFill>
          <p:spPr>
            <a:xfrm>
              <a:off x="4535640" y="1901880"/>
              <a:ext cx="418824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角丸四角形 9"/>
            <p:cNvSpPr/>
            <p:nvPr/>
          </p:nvSpPr>
          <p:spPr>
            <a:xfrm>
              <a:off x="4547520" y="1596960"/>
              <a:ext cx="4364640" cy="4818240"/>
            </a:xfrm>
            <a:custGeom>
              <a:avLst/>
              <a:gdLst>
                <a:gd name="textAreaLeft" fmla="*/ 212760 w 4364640"/>
                <a:gd name="textAreaRight" fmla="*/ 4151880 w 4364640"/>
                <a:gd name="textAreaTop" fmla="*/ 212760 h 4818240"/>
                <a:gd name="textAreaBottom" fmla="*/ 4605480 h 4818240"/>
              </a:gdLst>
              <a:ahLst/>
              <a:rect l="textAreaLeft" t="textAreaTop" r="textAreaRight" b="textAreaBottom"/>
              <a:pathLst>
                <a:path w="21600" h="23845">
                  <a:moveTo>
                    <a:pt x="3600" y="0"/>
                  </a:moveTo>
                  <a:arcTo wR="3600" hR="3600" stAng="16200000" swAng="-5400000"/>
                  <a:lnTo>
                    <a:pt x="0" y="20245"/>
                  </a:lnTo>
                  <a:arcTo wR="3600" hR="3600" stAng="10800000" swAng="-5400000"/>
                  <a:lnTo>
                    <a:pt x="18000" y="238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グループ化 19"/>
          <p:cNvGrpSpPr/>
          <p:nvPr/>
        </p:nvGrpSpPr>
        <p:grpSpPr>
          <a:xfrm>
            <a:off x="219240" y="4538520"/>
            <a:ext cx="4160520" cy="1847880"/>
            <a:chOff x="219240" y="4538520"/>
            <a:chExt cx="4160520" cy="1847880"/>
          </a:xfrm>
        </p:grpSpPr>
        <p:sp>
          <p:nvSpPr>
            <p:cNvPr id="196" name="角丸四角形 10"/>
            <p:cNvSpPr/>
            <p:nvPr/>
          </p:nvSpPr>
          <p:spPr>
            <a:xfrm>
              <a:off x="219240" y="5539320"/>
              <a:ext cx="4160520" cy="800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コンテンツ プレースホルダ 17" descr=""/>
            <p:cNvPicPr/>
            <p:nvPr/>
          </p:nvPicPr>
          <p:blipFill>
            <a:blip r:embed="rId4"/>
            <a:stretch/>
          </p:blipFill>
          <p:spPr>
            <a:xfrm>
              <a:off x="365760" y="4538520"/>
              <a:ext cx="3864600" cy="18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テキスト ボックス 12"/>
          <p:cNvSpPr/>
          <p:nvPr/>
        </p:nvSpPr>
        <p:spPr>
          <a:xfrm>
            <a:off x="589320" y="345600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製品やソフトウェ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求められるもの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何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13"/>
          <p:cNvSpPr/>
          <p:nvPr/>
        </p:nvSpPr>
        <p:spPr>
          <a:xfrm>
            <a:off x="5601240" y="1830240"/>
            <a:ext cx="2100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要求を実現するために必要な動作内容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それを実現するための仕組みが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複雑にならないよう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14"/>
          <p:cNvSpPr/>
          <p:nvPr/>
        </p:nvSpPr>
        <p:spPr>
          <a:xfrm>
            <a:off x="6535080" y="460368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性能向上に必要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技術や戦略が十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15"/>
          <p:cNvSpPr/>
          <p:nvPr/>
        </p:nvSpPr>
        <p:spPr>
          <a:xfrm>
            <a:off x="7067880" y="58212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各モデルの内容が、相互に確認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追跡可能で一貫性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コンテンツ プレースホルダ 2"/>
          <p:cNvSpPr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大きく、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カテゴリから構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20"/>
          <p:cNvSpPr/>
          <p:nvPr/>
        </p:nvSpPr>
        <p:spPr>
          <a:xfrm>
            <a:off x="825840" y="26067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わかりやす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書け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21"/>
          <p:cNvSpPr/>
          <p:nvPr/>
        </p:nvSpPr>
        <p:spPr>
          <a:xfrm>
            <a:off x="2754720" y="5581800"/>
            <a:ext cx="15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新しい試みや日常の開発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出来ないことへのチャレン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モデル審査の方法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基準の各項目を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レベルで評価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各項目の評価レベルを点数化し、さらに重みを加味して、最終評価点を算出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評価点に応じて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　までの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段階のレベルを付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7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5E8F-89D1-4184-9447-152939613BFC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各チームへのフィードバック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設計面と性能面に分けて、「良かった点」「気になった点」をそれぞれコメントとして記述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B3A1-F23E-4463-AB74-A37DA64E3EA6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870120" y="2036880"/>
            <a:ext cx="77198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のモデル審査結果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D419-59F3-4A1F-B431-8A5F862C7D1C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941400"/>
            <a:ext cx="5861160" cy="352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611520" y="3370320"/>
            <a:ext cx="5427720" cy="3112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1"/>
          <p:cNvSpPr/>
          <p:nvPr/>
        </p:nvSpPr>
        <p:spPr>
          <a:xfrm>
            <a:off x="6051600" y="2395440"/>
            <a:ext cx="8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7"/>
          <p:cNvSpPr/>
          <p:nvPr/>
        </p:nvSpPr>
        <p:spPr>
          <a:xfrm>
            <a:off x="5247720" y="15415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ほぼすべてに渡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程度高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追加課題については、大きな差が発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8"/>
          <p:cNvSpPr/>
          <p:nvPr/>
        </p:nvSpPr>
        <p:spPr>
          <a:xfrm>
            <a:off x="1819440" y="5106960"/>
            <a:ext cx="4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参加チームが多く、開催回数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多い地区ほど評価が高い傾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こ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0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間のモデル進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968B-47A7-442B-88FF-7B13E5FD4BA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図 4" descr="modelcocept.jpg"/>
          <p:cNvPicPr/>
          <p:nvPr/>
        </p:nvPicPr>
        <p:blipFill>
          <a:blip r:embed="rId1"/>
          <a:stretch/>
        </p:blipFill>
        <p:spPr>
          <a:xfrm>
            <a:off x="168120" y="955800"/>
            <a:ext cx="8620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04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優勝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5AD1-B2FD-41E4-9542-169EDAFDCAC3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660760" y="1332000"/>
            <a:ext cx="3944880" cy="31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122400" y="3514680"/>
            <a:ext cx="4244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226" name="グループ化 6"/>
          <p:cNvGrpSpPr/>
          <p:nvPr/>
        </p:nvGrpSpPr>
        <p:grpSpPr>
          <a:xfrm>
            <a:off x="4494240" y="3603600"/>
            <a:ext cx="4425840" cy="2577960"/>
            <a:chOff x="4494240" y="3603600"/>
            <a:chExt cx="4425840" cy="2577960"/>
          </a:xfrm>
        </p:grpSpPr>
        <p:pic>
          <p:nvPicPr>
            <p:cNvPr id="227" name="Picture 4" descr=""/>
            <p:cNvPicPr/>
            <p:nvPr/>
          </p:nvPicPr>
          <p:blipFill>
            <a:blip r:embed="rId3"/>
            <a:stretch/>
          </p:blipFill>
          <p:spPr>
            <a:xfrm>
              <a:off x="4494240" y="3603600"/>
              <a:ext cx="24984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"/>
            <p:cNvPicPr/>
            <p:nvPr/>
          </p:nvPicPr>
          <p:blipFill>
            <a:blip r:embed="rId4"/>
            <a:stretch/>
          </p:blipFill>
          <p:spPr>
            <a:xfrm>
              <a:off x="7156440" y="3891600"/>
              <a:ext cx="1763640" cy="21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Text Box 8"/>
          <p:cNvSpPr/>
          <p:nvPr/>
        </p:nvSpPr>
        <p:spPr>
          <a:xfrm>
            <a:off x="626760" y="387684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281840" y="169380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7906680" y="3479760"/>
            <a:ext cx="82368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dcterms:modified xsi:type="dcterms:W3CDTF">2012-02-17T09:49:45Z</dcterms:modified>
  <cp:revision>414</cp:revision>
  <dc:subject/>
  <dc:title>ETロボコン公式教材 （その１） モデルの描き方トレーニング</dc:title>
</cp:coreProperties>
</file>