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401292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90720" y="764640"/>
            <a:ext cx="5106960" cy="383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401292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C2E73F-4AD7-4E0B-BAD3-3E3267F624D1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ED04B8-DDDA-495F-BB92-51C377F47D58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EEC4BA-8846-496B-8670-CAA1DF8D5890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4D0C2E-FF91-4E8F-ADAD-37FF77692CE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6E28C5-7316-47C8-A464-5EE5355D3D5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A3CCA5-158D-48A0-8064-94F565F9921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963523-2CEC-47C6-AD0F-65712F078952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B31D09-95BE-4F7F-88C4-24354AA4DA4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9F567C-5088-4A9F-A5CF-4610359CACE3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B78BF3-A3F3-4BCF-A36E-99E73603D921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501AD7-D628-4DD9-9505-C2088BDE651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35D6F4-2CF3-4205-BCCC-1878AD5D76A0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EB5460-379C-4526-B051-2F7DAC16304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A09CFB-0F25-41F6-BF30-4E5859F7977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751CDE-D267-4EB5-8F4F-D5C1487A71C1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E6D20C-3820-4368-AFBE-BC48242EBF10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5EDA-F9FE-4973-95A5-50883EE29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49CA-589B-4B39-B4EE-4B3DC4B92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6A5C-80F3-45F0-8E7F-10032AD25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323F-B80D-45FC-BF8D-950EFE991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E14A-7618-4D65-B190-CCB1618164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74FF-5284-4286-BA36-123ED4F260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BEFC-DC18-4480-98B4-5A8305BB69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3B61-1FF5-4BBE-9FEA-B377A19020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F5B2-842A-46AF-9A55-DA2A7DA807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54B6-A75E-4489-BA0D-4D370B3253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4884-3264-4059-A37A-DF8DED33F0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D952-2026-4A3B-9CE2-C2AE8A2ED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0A16-2F9B-4D24-B2A3-00003FDB99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3BD2-71D0-45D8-9078-E9F12C66C1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0163-6F1C-44DA-BF72-E550FA0C57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6301-5F5C-4D18-81AD-D0B7C78B07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8F4A-02EC-442B-8425-6E5A1C9C39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D74-F1FF-4555-AAE0-52CA51A9FD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4FB-1C91-49E3-8081-1F89140963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5FA-C7D5-4DE6-8513-E018AAEF43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39D-D9B3-4619-AD8A-8F9FC796FC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C03-89E9-4256-86B9-30CDE1B542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C22B-83EB-4AF7-81BD-3515FB7FDF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30F-3D58-4108-82BD-3E43BD399B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E30-D285-4C2E-85A5-0C63CBFC87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566-777E-4BD3-9790-27F5D259AE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648-B42D-4DC9-8C31-AA3E21D0E5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147-8833-4EB1-B709-91D84F6C0B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25C-E45D-42BA-9CEF-E32CD8C65A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19D-40B9-43BE-B216-74F59955CE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9A59D-D421-44B5-A21C-0D12BDED35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1D0A0-89EA-4ACD-B127-346A484334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2296D-2A27-445E-9AE7-534B9F1EC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6A8A-58C5-4EAE-AF9D-2A142B62F6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A79DC-36AF-4247-8A9F-4EB92EBFA8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67048-3FC7-4A1D-ABE0-CFE0DFA433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04244-613A-40BB-B98F-A91A5D4DEA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63E4A-BC4A-4AFF-AFE7-C4A9B54122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D27C4-B20F-4107-965D-E974A24F41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D80BF-011B-4C9C-A350-59915FA79C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652BD-D72F-49B1-8DA1-C3E3A595DC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BDA13-BC41-4984-81A5-865B8104D3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7B935-3648-4A1F-8F67-25CB907BC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FCE0-95D9-4E8F-926F-17A978A95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4F6E-C37A-4FBB-A012-A322CB98A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F9D2-517C-4F85-9AE0-A83A01491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F47A-A9C6-4278-B7FF-40EFA3094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AAE6-3B1B-4E3E-AC4F-469643D6A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DC1D-AC80-46D3-A97B-B58FF88E14A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A412-7117-4722-8872-CD903FD4111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6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BEEC-886C-43DD-8334-D5357E41B31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59738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B691-5C84-45C2-A4DB-1FEFFB99DE5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3963-F1A6-43B3-BBE1-1069675FCCC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024D-E155-4739-B788-04192E0A8ACD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2040" y="1112400"/>
            <a:ext cx="7380360" cy="26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年モデル審査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のポイント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077920" y="2728800"/>
            <a:ext cx="5078520" cy="3767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エクセレント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8CD7-E8A5-4DD2-92B8-9EADFB35A35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2038320" y="996840"/>
            <a:ext cx="5181480" cy="386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04840" y="2192400"/>
            <a:ext cx="4224240" cy="315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4681440" y="2187720"/>
            <a:ext cx="4227480" cy="3147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394920" y="24433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281840" y="12985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728840" y="2401920"/>
            <a:ext cx="82368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754440" y="5857920"/>
            <a:ext cx="169056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要素技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0840" y="2923920"/>
            <a:ext cx="72961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のポイント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102A-69CC-4C58-BB51-9D854A18E5A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振り返り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アンケート結果から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審査結果の公開や、審査結果に関するより多くのフィードバックを希望する声が多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他チームとの相対的な位置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より多くのコメント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モデル審査の内容や基準に対する意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性能モデルが実験レポートに傾倒し過ぎ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技術教育に対する要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もっと初心者向けの内容を増やして欲し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工数の激増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参加チーム、モデル密度がそれぞれ増す中、モデル審査にかかる時間も年々増大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この方法で、より詳細なフィードバックや審査内容の追加は不可能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122D-70D6-4DDC-A80D-A284D56C816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全員参加の「いいね！」型モデル審査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の審査結果は参加チームへの一方的な通知表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する側、される側という意識が、みんなで大会を作っていくというロボコンのあり方を希薄化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いまのフィードバックだけでは、審査委員個々の思いやコメントが伝えきれな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「審査委員会」だけでなく、参加チームも審査に参加することで公平感・納得感を高めた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参加チームからの投票を受け付ける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最終評価は、審査委員会の評価と参加チームの投票結果により決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委員それぞれの評価や、一押しモデルも積極的に公開することで審査委員の「顔が見える」審査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まず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のみでの採用を検討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AE22-06E1-450D-BBFB-83DE867BC75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リング初心者にフォーカスした教育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これまでの教育資料は、初心者～経験者までを広くカバーすることを目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、実装、プロセスまで及び、すべての習得は困難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とくに、初心者に対するハードルが高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による「うれしさ」よりも「たいへんさ」が先行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年は、スキルアップの前に、まずは「モデリング」の価値を実感してもらうように方向転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ルを「作る」ことは大切だが、まず最初は「使う」のが先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すでに用意された「モデル」をつかって、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ロボコン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Hello world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（＝ライントレース）」を作ることにトライ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</a:rPr>
              <a:t>「モデルを使うとこんなに開発が楽なんだ！」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総合的な教材として、今までの教材の提供も併用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実際の進め方（ツールの活用、時間配分等）は今後検討予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B3E7-8F28-438D-AD21-D8CE5F60A45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もよろしくお願いします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C575-79F4-4CAE-B27A-CF459DECA25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目次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ル審査について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今年のポイン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DB50-D1C1-43F3-BF99-1E17543B33B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モデル審査について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B0A3-09EF-4943-B9AA-DF210C41084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モデル審査基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C01E-8EB8-4FD0-966A-98892A178C72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グループ化 16"/>
          <p:cNvGrpSpPr/>
          <p:nvPr/>
        </p:nvGrpSpPr>
        <p:grpSpPr>
          <a:xfrm>
            <a:off x="204840" y="1608120"/>
            <a:ext cx="4189320" cy="1623960"/>
            <a:chOff x="204840" y="1608120"/>
            <a:chExt cx="4189320" cy="1623960"/>
          </a:xfrm>
        </p:grpSpPr>
        <p:pic>
          <p:nvPicPr>
            <p:cNvPr id="187" name="コンテンツ プレースホルダ 17" descr=""/>
            <p:cNvPicPr/>
            <p:nvPr/>
          </p:nvPicPr>
          <p:blipFill>
            <a:blip r:embed="rId1"/>
            <a:stretch/>
          </p:blipFill>
          <p:spPr>
            <a:xfrm>
              <a:off x="347400" y="1608120"/>
              <a:ext cx="398088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角丸四角形 7"/>
            <p:cNvSpPr/>
            <p:nvPr/>
          </p:nvSpPr>
          <p:spPr>
            <a:xfrm>
              <a:off x="204840" y="1636920"/>
              <a:ext cx="4189320" cy="1544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グループ化 18"/>
          <p:cNvGrpSpPr/>
          <p:nvPr/>
        </p:nvGrpSpPr>
        <p:grpSpPr>
          <a:xfrm>
            <a:off x="193680" y="3429000"/>
            <a:ext cx="4159080" cy="1849320"/>
            <a:chOff x="193680" y="3429000"/>
            <a:chExt cx="4159080" cy="1849320"/>
          </a:xfrm>
        </p:grpSpPr>
        <p:pic>
          <p:nvPicPr>
            <p:cNvPr id="190" name="コンテンツ プレースホルダ 17" descr=""/>
            <p:cNvPicPr/>
            <p:nvPr/>
          </p:nvPicPr>
          <p:blipFill>
            <a:blip r:embed="rId2"/>
            <a:stretch/>
          </p:blipFill>
          <p:spPr>
            <a:xfrm>
              <a:off x="383760" y="3431880"/>
              <a:ext cx="391968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角丸四角形 8"/>
            <p:cNvSpPr/>
            <p:nvPr/>
          </p:nvSpPr>
          <p:spPr>
            <a:xfrm>
              <a:off x="193680" y="3429000"/>
              <a:ext cx="4159080" cy="181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グループ化 17"/>
          <p:cNvGrpSpPr/>
          <p:nvPr/>
        </p:nvGrpSpPr>
        <p:grpSpPr>
          <a:xfrm>
            <a:off x="4535640" y="1596960"/>
            <a:ext cx="4376520" cy="4818240"/>
            <a:chOff x="4535640" y="1596960"/>
            <a:chExt cx="4376520" cy="4818240"/>
          </a:xfrm>
        </p:grpSpPr>
        <p:pic>
          <p:nvPicPr>
            <p:cNvPr id="193" name="コンテンツ プレースホルダ 17" descr=""/>
            <p:cNvPicPr/>
            <p:nvPr/>
          </p:nvPicPr>
          <p:blipFill>
            <a:blip r:embed="rId3"/>
            <a:stretch/>
          </p:blipFill>
          <p:spPr>
            <a:xfrm>
              <a:off x="4535640" y="1901880"/>
              <a:ext cx="418824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角丸四角形 9"/>
            <p:cNvSpPr/>
            <p:nvPr/>
          </p:nvSpPr>
          <p:spPr>
            <a:xfrm>
              <a:off x="4547520" y="1596960"/>
              <a:ext cx="4364640" cy="4818240"/>
            </a:xfrm>
            <a:custGeom>
              <a:avLst/>
              <a:gdLst>
                <a:gd name="textAreaLeft" fmla="*/ 212760 w 4364640"/>
                <a:gd name="textAreaRight" fmla="*/ 4151880 w 4364640"/>
                <a:gd name="textAreaTop" fmla="*/ 212760 h 4818240"/>
                <a:gd name="textAreaBottom" fmla="*/ 4605480 h 4818240"/>
              </a:gdLst>
              <a:ahLst/>
              <a:rect l="textAreaLeft" t="textAreaTop" r="textAreaRight" b="textAreaBottom"/>
              <a:pathLst>
                <a:path w="21600" h="23845">
                  <a:moveTo>
                    <a:pt x="3600" y="0"/>
                  </a:moveTo>
                  <a:arcTo wR="3600" hR="3600" stAng="16200000" swAng="-5400000"/>
                  <a:lnTo>
                    <a:pt x="0" y="20245"/>
                  </a:lnTo>
                  <a:arcTo wR="3600" hR="3600" stAng="10800000" swAng="-5400000"/>
                  <a:lnTo>
                    <a:pt x="18000" y="238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グループ化 19"/>
          <p:cNvGrpSpPr/>
          <p:nvPr/>
        </p:nvGrpSpPr>
        <p:grpSpPr>
          <a:xfrm>
            <a:off x="219240" y="4538520"/>
            <a:ext cx="4160520" cy="1847880"/>
            <a:chOff x="219240" y="4538520"/>
            <a:chExt cx="4160520" cy="1847880"/>
          </a:xfrm>
        </p:grpSpPr>
        <p:sp>
          <p:nvSpPr>
            <p:cNvPr id="196" name="角丸四角形 10"/>
            <p:cNvSpPr/>
            <p:nvPr/>
          </p:nvSpPr>
          <p:spPr>
            <a:xfrm>
              <a:off x="219240" y="5539320"/>
              <a:ext cx="4160520" cy="800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コンテンツ プレースホルダ 17" descr=""/>
            <p:cNvPicPr/>
            <p:nvPr/>
          </p:nvPicPr>
          <p:blipFill>
            <a:blip r:embed="rId4"/>
            <a:stretch/>
          </p:blipFill>
          <p:spPr>
            <a:xfrm>
              <a:off x="365760" y="4538520"/>
              <a:ext cx="3864600" cy="18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テキスト ボックス 12"/>
          <p:cNvSpPr/>
          <p:nvPr/>
        </p:nvSpPr>
        <p:spPr>
          <a:xfrm>
            <a:off x="589320" y="345600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製品やソフトウェ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求められるもの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何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3"/>
          <p:cNvSpPr/>
          <p:nvPr/>
        </p:nvSpPr>
        <p:spPr>
          <a:xfrm>
            <a:off x="5601240" y="1830240"/>
            <a:ext cx="210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要求を実現するために必要な動作内容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それを実現するための仕組み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複雑にならないよう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4"/>
          <p:cNvSpPr/>
          <p:nvPr/>
        </p:nvSpPr>
        <p:spPr>
          <a:xfrm>
            <a:off x="6535080" y="460368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性能向上に必要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技術や戦略が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15"/>
          <p:cNvSpPr/>
          <p:nvPr/>
        </p:nvSpPr>
        <p:spPr>
          <a:xfrm>
            <a:off x="7067880" y="58212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各モデルの内容が、相互に確認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追跡可能で一貫性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コンテンツ プレースホルダ 2"/>
          <p:cNvSpPr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大きく、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カテゴリから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0"/>
          <p:cNvSpPr/>
          <p:nvPr/>
        </p:nvSpPr>
        <p:spPr>
          <a:xfrm>
            <a:off x="825840" y="26067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わかりやす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書け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21"/>
          <p:cNvSpPr/>
          <p:nvPr/>
        </p:nvSpPr>
        <p:spPr>
          <a:xfrm>
            <a:off x="2754720" y="5581800"/>
            <a:ext cx="15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新しい試みや日常の開発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出来ないことへのチャレン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モデル審査の方法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基準の各項目を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レベルで評価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各項目の評価レベルを点数化し、さらに重みを加味して、最終評価点を算出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評価点に応じて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　までの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段階のレベルを付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F771-B26C-42F3-8154-236D4EB6F572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各チームへのフィードバック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設計面と性能面に分けて、「良かった点」「気になった点」をそれぞれコメントとして記述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E3ED-C908-4123-9725-3F0F4F176FD6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870120" y="2036880"/>
            <a:ext cx="77198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のモデル審査結果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C2A2-6C95-4638-B2C4-ADCA70622CC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941400"/>
            <a:ext cx="5861160" cy="352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611520" y="3370320"/>
            <a:ext cx="5427720" cy="3112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6051600" y="2395440"/>
            <a:ext cx="8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7"/>
          <p:cNvSpPr/>
          <p:nvPr/>
        </p:nvSpPr>
        <p:spPr>
          <a:xfrm>
            <a:off x="5247720" y="154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ほぼすべてに渡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程度高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追加課題については、大きな差が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8"/>
          <p:cNvSpPr/>
          <p:nvPr/>
        </p:nvSpPr>
        <p:spPr>
          <a:xfrm>
            <a:off x="1819440" y="510696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参加チームが多く、開催回数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多い地区ほど評価が高い傾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こ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0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間のモデル進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C1F8-FC83-43A5-B507-EED12337396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図 4" descr="modelcocept.jpg"/>
          <p:cNvPicPr/>
          <p:nvPr/>
        </p:nvPicPr>
        <p:blipFill>
          <a:blip r:embed="rId1"/>
          <a:stretch/>
        </p:blipFill>
        <p:spPr>
          <a:xfrm>
            <a:off x="168120" y="955800"/>
            <a:ext cx="8620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04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優勝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C6BD-D466-4EDB-8913-B8C8AA25C398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660760" y="1332000"/>
            <a:ext cx="3944880" cy="31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22400" y="3514680"/>
            <a:ext cx="4244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226" name="グループ化 6"/>
          <p:cNvGrpSpPr/>
          <p:nvPr/>
        </p:nvGrpSpPr>
        <p:grpSpPr>
          <a:xfrm>
            <a:off x="4494240" y="3603600"/>
            <a:ext cx="4425840" cy="2577960"/>
            <a:chOff x="4494240" y="3603600"/>
            <a:chExt cx="4425840" cy="2577960"/>
          </a:xfrm>
        </p:grpSpPr>
        <p:pic>
          <p:nvPicPr>
            <p:cNvPr id="227" name="Picture 4" descr=""/>
            <p:cNvPicPr/>
            <p:nvPr/>
          </p:nvPicPr>
          <p:blipFill>
            <a:blip r:embed="rId3"/>
            <a:stretch/>
          </p:blipFill>
          <p:spPr>
            <a:xfrm>
              <a:off x="4494240" y="3603600"/>
              <a:ext cx="24984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7156440" y="3891600"/>
              <a:ext cx="1763640" cy="21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8"/>
          <p:cNvSpPr/>
          <p:nvPr/>
        </p:nvSpPr>
        <p:spPr>
          <a:xfrm>
            <a:off x="626760" y="387684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281840" y="169380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906680" y="3479760"/>
            <a:ext cx="82368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dcterms:modified xsi:type="dcterms:W3CDTF">2012-02-17T09:49:45Z</dcterms:modified>
  <cp:revision>414</cp:revision>
  <dc:subject/>
  <dc:title>ETロボコン公式教材 （その１） モデルの描き方トレーニング</dc:title>
</cp:coreProperties>
</file>